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9ADE-CDA9-4373-82EB-6788EAB0E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53C8-8E41-4A58-A640-5A1B6E28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74AE-AFD1-4AF6-9F8F-08CF5D718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7F3B-B6CA-40C2-BA5D-1008532B3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AF82-998F-45E5-97F1-03D4E4AD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71A8-07F8-421C-AEB1-B3237CB4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3C87-8D0B-4776-AA7B-571B7A18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0545-C3F0-4B3A-B454-E848F051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442C-CCF3-4E98-BE08-72757482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3F72-B7E5-426A-BC89-99C0311F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685D-05C2-4CDE-AF32-EBB5151B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D2BB-81F8-4C23-99CB-F9CD1823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2A66-64E0-43E7-82D5-1293430B0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d the volume of the solid formed when part of the curve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2x</a:t>
            </a:r>
            <a:r>
              <a:rPr b="0" i="1" lang="en-GB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between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1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3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is rotated about the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ax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parabola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GB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x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&lt;x&lt;2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is rotated about the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-axis. Find the volume of the solid form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curve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x</a:t>
            </a:r>
            <a:r>
              <a:rPr b="0" i="1" lang="en-GB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&lt;x&lt;3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is rotated about the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-axis. Find the volume of the solid form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manda</cp:lastModifiedBy>
  <dcterms:modified xsi:type="dcterms:W3CDTF">2009-10-26T15:31:0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