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DA0-22EA-4055-ACCD-ABF30C07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09B-9F15-4B48-B6CE-6D1B009E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AFE-873D-4BA8-AC4A-85810E2B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707-9418-4212-AA6F-31F20FE0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F7E-9528-4F50-BBA8-F6C83F30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D06-32FB-435B-B49A-6AE4BDD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61C-3057-4004-B419-67EAF02A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553-DCC4-478D-B318-ECBB7B7A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797-D8B4-4CFC-BDB1-C9D8DBEA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01C-815A-4EFA-8312-675114E8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D60-1BE5-486D-94FB-4F74C32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595-6F09-4991-9F4E-3EFDBD0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9F0F-51D9-4043-BE35-0738AAA6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moment of mass about 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4191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07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centre of mass of the 2 masses distributed as sh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795920" y="285840"/>
            <a:ext cx="3990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centre of mass of the 3 masses distributed as shown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071800" y="1214280"/>
            <a:ext cx="4410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es of 3kg 7kg and 2kg are located at the points with coordinates (2,3)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7, -2) and (1,1) respectively. Find the y- coordinate of their centre of m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1437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sider the lamina shown. Find the location of the y-coordinate of its centre of m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42160" y="0"/>
            <a:ext cx="154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6T15:39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