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3E2-C38A-4F27-9A7C-4DBDAE6D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EEA-E5EC-4024-877F-9E701F8E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637-FB15-4E97-8AA4-A42BE01D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220-B54A-4588-9228-3E7820A4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551-6532-42E4-8668-264C2C3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313-BE6B-47CF-9732-2AD21639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E5E-31C5-4613-97DC-CBB879B1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76D-4F73-4403-9CC5-FCE65B4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EDD-C413-4FF0-9B4B-D465522A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8EE-8EF1-4BA3-B541-0736F42A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457-00AD-48DF-8898-236AA9E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B0F-F768-485E-BD11-17168894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97FA-88C7-4B4B-8482-87EA988E9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nit normal is given by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Picture Choice 1"/>
          <p:cNvGrpSpPr/>
          <p:nvPr/>
        </p:nvGrpSpPr>
        <p:grpSpPr>
          <a:xfrm>
            <a:off x="714240" y="2000160"/>
            <a:ext cx="908280" cy="1428840"/>
            <a:chOff x="714240" y="2000160"/>
            <a:chExt cx="908280" cy="1428840"/>
          </a:xfrm>
        </p:grpSpPr>
        <p:pic>
          <p:nvPicPr>
            <p:cNvPr id="46" name="PSPic" descr=""/>
            <p:cNvPicPr/>
            <p:nvPr/>
          </p:nvPicPr>
          <p:blipFill>
            <a:blip r:embed="rId3"/>
            <a:stretch/>
          </p:blipFill>
          <p:spPr>
            <a:xfrm>
              <a:off x="904680" y="2381040"/>
              <a:ext cx="7178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PSText"/>
            <p:cNvSpPr/>
            <p:nvPr/>
          </p:nvSpPr>
          <p:spPr>
            <a:xfrm>
              <a:off x="904680" y="200016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SArrow"/>
            <p:cNvSpPr/>
            <p:nvPr/>
          </p:nvSpPr>
          <p:spPr>
            <a:xfrm>
              <a:off x="71424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Picture Choice 2"/>
          <p:cNvGrpSpPr/>
          <p:nvPr/>
        </p:nvGrpSpPr>
        <p:grpSpPr>
          <a:xfrm>
            <a:off x="2286000" y="2928960"/>
            <a:ext cx="907920" cy="1428840"/>
            <a:chOff x="2286000" y="2928960"/>
            <a:chExt cx="907920" cy="142884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2476440" y="3309840"/>
              <a:ext cx="7174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SText"/>
            <p:cNvSpPr/>
            <p:nvPr/>
          </p:nvSpPr>
          <p:spPr>
            <a:xfrm>
              <a:off x="2476440" y="2928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SArrow"/>
            <p:cNvSpPr/>
            <p:nvPr/>
          </p:nvSpPr>
          <p:spPr>
            <a:xfrm>
              <a:off x="2286000" y="3182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Picture Choice 3"/>
          <p:cNvGrpSpPr/>
          <p:nvPr/>
        </p:nvGrpSpPr>
        <p:grpSpPr>
          <a:xfrm>
            <a:off x="714240" y="4000680"/>
            <a:ext cx="908280" cy="1371600"/>
            <a:chOff x="714240" y="4000680"/>
            <a:chExt cx="908280" cy="1371600"/>
          </a:xfrm>
        </p:grpSpPr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904680" y="4381560"/>
              <a:ext cx="7178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PSText"/>
            <p:cNvSpPr/>
            <p:nvPr/>
          </p:nvSpPr>
          <p:spPr>
            <a:xfrm>
              <a:off x="904680" y="400068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SArrow"/>
            <p:cNvSpPr/>
            <p:nvPr/>
          </p:nvSpPr>
          <p:spPr>
            <a:xfrm>
              <a:off x="71424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Picture Choice 4"/>
          <p:cNvGrpSpPr/>
          <p:nvPr/>
        </p:nvGrpSpPr>
        <p:grpSpPr>
          <a:xfrm>
            <a:off x="2214720" y="5143680"/>
            <a:ext cx="907920" cy="1373040"/>
            <a:chOff x="2214720" y="5143680"/>
            <a:chExt cx="907920" cy="1373040"/>
          </a:xfrm>
        </p:grpSpPr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2405160" y="5524560"/>
              <a:ext cx="71748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PSText"/>
            <p:cNvSpPr/>
            <p:nvPr/>
          </p:nvSpPr>
          <p:spPr>
            <a:xfrm>
              <a:off x="240516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SArrow"/>
            <p:cNvSpPr/>
            <p:nvPr/>
          </p:nvSpPr>
          <p:spPr>
            <a:xfrm>
              <a:off x="221472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CorShape1"/>
          <p:cNvSpPr/>
          <p:nvPr/>
        </p:nvSpPr>
        <p:spPr>
          <a:xfrm rot="10800000">
            <a:off x="357120" y="4071600"/>
            <a:ext cx="357120" cy="3445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82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633760" y="500040"/>
            <a:ext cx="6367320" cy="1000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960" y="2428920"/>
            <a:ext cx="3929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rShape1"/>
          <p:cNvSpPr/>
          <p:nvPr/>
        </p:nvSpPr>
        <p:spPr>
          <a:xfrm rot="10800000">
            <a:off x="358560" y="3081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y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y²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          from (0,0) to (1,3) wher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the curv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3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TPChart"/>
          <p:cNvGraphicFramePr/>
          <p:nvPr/>
        </p:nvGraphicFramePr>
        <p:xfrm>
          <a:off x="457200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677960" y="714240"/>
            <a:ext cx="1108080" cy="1071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y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9/2)y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rShape1"/>
          <p:cNvSpPr/>
          <p:nvPr/>
        </p:nvSpPr>
        <p:spPr>
          <a:xfrm rot="10800000">
            <a:off x="172800" y="25923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xyz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²y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xyz²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 curve from A=(0,0,0) to B=(1,1,1) given by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y=z=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t≤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Find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78620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927840" y="1285920"/>
            <a:ext cx="1073160" cy="976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 +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 +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 – 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rShape1"/>
          <p:cNvSpPr/>
          <p:nvPr/>
        </p:nvSpPr>
        <p:spPr>
          <a:xfrm rot="10800000">
            <a:off x="172800" y="2938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            where C represents the contou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²+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rom (0,1) to (1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357280" y="214200"/>
            <a:ext cx="1297080" cy="905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Picture Choice 1"/>
          <p:cNvGrpSpPr/>
          <p:nvPr/>
        </p:nvGrpSpPr>
        <p:grpSpPr>
          <a:xfrm>
            <a:off x="571680" y="1785960"/>
            <a:ext cx="1476360" cy="1228680"/>
            <a:chOff x="571680" y="1785960"/>
            <a:chExt cx="1476360" cy="1228680"/>
          </a:xfrm>
        </p:grpSpPr>
        <p:pic>
          <p:nvPicPr>
            <p:cNvPr id="170" name="PSPic" descr=""/>
            <p:cNvPicPr/>
            <p:nvPr/>
          </p:nvPicPr>
          <p:blipFill>
            <a:blip r:embed="rId4"/>
            <a:stretch/>
          </p:blipFill>
          <p:spPr>
            <a:xfrm>
              <a:off x="762120" y="2166840"/>
              <a:ext cx="1285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SText"/>
            <p:cNvSpPr/>
            <p:nvPr/>
          </p:nvSpPr>
          <p:spPr>
            <a:xfrm>
              <a:off x="76212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PSArrow"/>
            <p:cNvSpPr/>
            <p:nvPr/>
          </p:nvSpPr>
          <p:spPr>
            <a:xfrm>
              <a:off x="571680" y="20397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Picture Choice 2"/>
          <p:cNvGrpSpPr/>
          <p:nvPr/>
        </p:nvGrpSpPr>
        <p:grpSpPr>
          <a:xfrm>
            <a:off x="2357280" y="3000240"/>
            <a:ext cx="1476360" cy="1229040"/>
            <a:chOff x="2357280" y="3000240"/>
            <a:chExt cx="1476360" cy="1229040"/>
          </a:xfrm>
        </p:grpSpPr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2547720" y="3381120"/>
              <a:ext cx="1285920" cy="8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SText"/>
            <p:cNvSpPr/>
            <p:nvPr/>
          </p:nvSpPr>
          <p:spPr>
            <a:xfrm>
              <a:off x="254772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SArrow"/>
            <p:cNvSpPr/>
            <p:nvPr/>
          </p:nvSpPr>
          <p:spPr>
            <a:xfrm>
              <a:off x="235728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Picture Choice 3"/>
          <p:cNvGrpSpPr/>
          <p:nvPr/>
        </p:nvGrpSpPr>
        <p:grpSpPr>
          <a:xfrm>
            <a:off x="571680" y="4057560"/>
            <a:ext cx="1339560" cy="1228680"/>
            <a:chOff x="571680" y="4057560"/>
            <a:chExt cx="1339560" cy="122868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762120" y="4438440"/>
              <a:ext cx="11491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SText"/>
            <p:cNvSpPr/>
            <p:nvPr/>
          </p:nvSpPr>
          <p:spPr>
            <a:xfrm>
              <a:off x="762120" y="40575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SArrow"/>
            <p:cNvSpPr/>
            <p:nvPr/>
          </p:nvSpPr>
          <p:spPr>
            <a:xfrm>
              <a:off x="571680" y="4311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icture Choice 4"/>
          <p:cNvGrpSpPr/>
          <p:nvPr/>
        </p:nvGrpSpPr>
        <p:grpSpPr>
          <a:xfrm>
            <a:off x="2286000" y="5214960"/>
            <a:ext cx="1503360" cy="1228680"/>
            <a:chOff x="2286000" y="5214960"/>
            <a:chExt cx="1503360" cy="1228680"/>
          </a:xfrm>
        </p:grpSpPr>
        <p:pic>
          <p:nvPicPr>
            <p:cNvPr id="182" name="" descr=""/>
            <p:cNvPicPr/>
            <p:nvPr/>
          </p:nvPicPr>
          <p:blipFill>
            <a:blip r:embed="rId7"/>
            <a:stretch/>
          </p:blipFill>
          <p:spPr>
            <a:xfrm>
              <a:off x="2476440" y="5595840"/>
              <a:ext cx="1312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SText"/>
            <p:cNvSpPr/>
            <p:nvPr/>
          </p:nvSpPr>
          <p:spPr>
            <a:xfrm>
              <a:off x="247644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PSArrow"/>
            <p:cNvSpPr/>
            <p:nvPr/>
          </p:nvSpPr>
          <p:spPr>
            <a:xfrm>
              <a:off x="228600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CorShape2"/>
          <p:cNvSpPr/>
          <p:nvPr/>
        </p:nvSpPr>
        <p:spPr>
          <a:xfrm rot="10800000">
            <a:off x="1928880" y="3143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               where </a:t>
            </a:r>
            <a:br>
              <a:rPr sz="4000"/>
            </a:b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x²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y²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the curve 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x³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rom (0,0,0) to (1,1,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TPChart"/>
          <p:cNvGraphicFramePr/>
          <p:nvPr/>
        </p:nvGraphicFramePr>
        <p:xfrm>
          <a:off x="4714920" y="185724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185724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589200" y="138240"/>
            <a:ext cx="1516320" cy="928440"/>
          </a:xfrm>
          <a:prstGeom prst="rect">
            <a:avLst/>
          </a:prstGeom>
          <a:ln w="0">
            <a:noFill/>
          </a:ln>
        </p:spPr>
      </p:pic>
      <p:grpSp>
        <p:nvGrpSpPr>
          <p:cNvPr id="191" name="Picture Choice 1"/>
          <p:cNvGrpSpPr/>
          <p:nvPr/>
        </p:nvGrpSpPr>
        <p:grpSpPr>
          <a:xfrm>
            <a:off x="428760" y="2143080"/>
            <a:ext cx="2192040" cy="1166760"/>
            <a:chOff x="428760" y="2143080"/>
            <a:chExt cx="2192040" cy="1166760"/>
          </a:xfrm>
        </p:grpSpPr>
        <p:pic>
          <p:nvPicPr>
            <p:cNvPr id="192" name="PSPic" descr=""/>
            <p:cNvPicPr/>
            <p:nvPr/>
          </p:nvPicPr>
          <p:blipFill>
            <a:blip r:embed="rId4"/>
            <a:stretch/>
          </p:blipFill>
          <p:spPr>
            <a:xfrm>
              <a:off x="619200" y="2523960"/>
              <a:ext cx="20016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SText"/>
            <p:cNvSpPr/>
            <p:nvPr/>
          </p:nvSpPr>
          <p:spPr>
            <a:xfrm>
              <a:off x="619200" y="21430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PSArrow"/>
            <p:cNvSpPr/>
            <p:nvPr/>
          </p:nvSpPr>
          <p:spPr>
            <a:xfrm>
              <a:off x="428760" y="23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Picture Choice 2"/>
          <p:cNvGrpSpPr/>
          <p:nvPr/>
        </p:nvGrpSpPr>
        <p:grpSpPr>
          <a:xfrm>
            <a:off x="2286000" y="3405240"/>
            <a:ext cx="2192400" cy="1166760"/>
            <a:chOff x="2286000" y="3405240"/>
            <a:chExt cx="2192400" cy="1166760"/>
          </a:xfrm>
        </p:grpSpPr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2476440" y="3786120"/>
              <a:ext cx="20019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SText"/>
            <p:cNvSpPr/>
            <p:nvPr/>
          </p:nvSpPr>
          <p:spPr>
            <a:xfrm>
              <a:off x="2476440" y="3405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SArrow"/>
            <p:cNvSpPr/>
            <p:nvPr/>
          </p:nvSpPr>
          <p:spPr>
            <a:xfrm>
              <a:off x="2286000" y="3659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Picture Choice 3"/>
          <p:cNvGrpSpPr/>
          <p:nvPr/>
        </p:nvGrpSpPr>
        <p:grpSpPr>
          <a:xfrm>
            <a:off x="428760" y="4286160"/>
            <a:ext cx="1761840" cy="1166760"/>
            <a:chOff x="428760" y="4286160"/>
            <a:chExt cx="1761840" cy="1166760"/>
          </a:xfrm>
        </p:grpSpPr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619200" y="4667040"/>
              <a:ext cx="1571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PSText"/>
            <p:cNvSpPr/>
            <p:nvPr/>
          </p:nvSpPr>
          <p:spPr>
            <a:xfrm>
              <a:off x="619200" y="42861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PSArrow"/>
            <p:cNvSpPr/>
            <p:nvPr/>
          </p:nvSpPr>
          <p:spPr>
            <a:xfrm>
              <a:off x="42876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Picture Choice 4"/>
          <p:cNvGrpSpPr/>
          <p:nvPr/>
        </p:nvGrpSpPr>
        <p:grpSpPr>
          <a:xfrm>
            <a:off x="2286000" y="5405400"/>
            <a:ext cx="1762200" cy="1166760"/>
            <a:chOff x="2286000" y="5405400"/>
            <a:chExt cx="1762200" cy="1166760"/>
          </a:xfrm>
        </p:grpSpPr>
        <p:pic>
          <p:nvPicPr>
            <p:cNvPr id="204" name="" descr=""/>
            <p:cNvPicPr/>
            <p:nvPr/>
          </p:nvPicPr>
          <p:blipFill>
            <a:blip r:embed="rId7"/>
            <a:stretch/>
          </p:blipFill>
          <p:spPr>
            <a:xfrm>
              <a:off x="2476440" y="5786280"/>
              <a:ext cx="15717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SText"/>
            <p:cNvSpPr/>
            <p:nvPr/>
          </p:nvSpPr>
          <p:spPr>
            <a:xfrm>
              <a:off x="2476440" y="54054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PSArrow"/>
            <p:cNvSpPr/>
            <p:nvPr/>
          </p:nvSpPr>
          <p:spPr>
            <a:xfrm>
              <a:off x="2286000" y="5659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CorShape1"/>
          <p:cNvSpPr/>
          <p:nvPr/>
        </p:nvSpPr>
        <p:spPr>
          <a:xfrm rot="10800000">
            <a:off x="142920" y="221436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            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presents the surface of the unit cube 0≤x≤1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y≤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z≤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y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z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820960" y="-41400"/>
            <a:ext cx="1146240" cy="898560"/>
          </a:xfrm>
          <a:prstGeom prst="rect">
            <a:avLst/>
          </a:prstGeom>
          <a:ln w="0">
            <a:noFill/>
          </a:ln>
        </p:spPr>
      </p:pic>
      <p:sp>
        <p:nvSpPr>
          <p:cNvPr id="213" name="CorShape1"/>
          <p:cNvSpPr/>
          <p:nvPr/>
        </p:nvSpPr>
        <p:spPr>
          <a:xfrm rot="10800000">
            <a:off x="172800" y="3081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n electric current flows at a constant rate through a conductor, then the current continuity equation states that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TPChart"/>
          <p:cNvGraphicFramePr/>
          <p:nvPr/>
        </p:nvGraphicFramePr>
        <p:xfrm>
          <a:off x="457200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214440"/>
            <a:ext cx="41148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044960" y="1752480"/>
            <a:ext cx="1822320" cy="1071720"/>
          </a:xfrm>
          <a:prstGeom prst="rect">
            <a:avLst/>
          </a:prstGeom>
          <a:ln w="0">
            <a:noFill/>
          </a:ln>
        </p:spPr>
      </p:pic>
      <p:sp>
        <p:nvSpPr>
          <p:cNvPr id="219" name="CorShape1"/>
          <p:cNvSpPr/>
          <p:nvPr/>
        </p:nvSpPr>
        <p:spPr>
          <a:xfrm rot="10800000">
            <a:off x="172800" y="3378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            where </a:t>
            </a:r>
            <a:br>
              <a:rPr sz="4000"/>
            </a:b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xy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y²z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z²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surface of the unit cub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x≤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y≤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z≤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TPChart"/>
          <p:cNvGraphicFramePr/>
          <p:nvPr/>
        </p:nvGraphicFramePr>
        <p:xfrm>
          <a:off x="478620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272120" y="0"/>
            <a:ext cx="1299960" cy="1000080"/>
          </a:xfrm>
          <a:prstGeom prst="rect">
            <a:avLst/>
          </a:prstGeom>
          <a:ln w="0">
            <a:noFill/>
          </a:ln>
        </p:spPr>
      </p:pic>
      <p:grpSp>
        <p:nvGrpSpPr>
          <p:cNvPr id="225" name="Picture Choice 1"/>
          <p:cNvGrpSpPr/>
          <p:nvPr/>
        </p:nvGrpSpPr>
        <p:grpSpPr>
          <a:xfrm>
            <a:off x="785880" y="2214720"/>
            <a:ext cx="825480" cy="1380960"/>
            <a:chOff x="785880" y="2214720"/>
            <a:chExt cx="825480" cy="1380960"/>
          </a:xfrm>
        </p:grpSpPr>
        <p:pic>
          <p:nvPicPr>
            <p:cNvPr id="226" name="PSPic" descr=""/>
            <p:cNvPicPr/>
            <p:nvPr/>
          </p:nvPicPr>
          <p:blipFill>
            <a:blip r:embed="rId4"/>
            <a:stretch/>
          </p:blipFill>
          <p:spPr>
            <a:xfrm>
              <a:off x="976320" y="2595600"/>
              <a:ext cx="516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SText"/>
            <p:cNvSpPr/>
            <p:nvPr/>
          </p:nvSpPr>
          <p:spPr>
            <a:xfrm>
              <a:off x="976320" y="2214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PSArrow"/>
            <p:cNvSpPr/>
            <p:nvPr/>
          </p:nvSpPr>
          <p:spPr>
            <a:xfrm>
              <a:off x="78588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Picture Choice 2"/>
          <p:cNvGrpSpPr/>
          <p:nvPr/>
        </p:nvGrpSpPr>
        <p:grpSpPr>
          <a:xfrm>
            <a:off x="2143080" y="3214800"/>
            <a:ext cx="825480" cy="1380960"/>
            <a:chOff x="2143080" y="3214800"/>
            <a:chExt cx="825480" cy="1380960"/>
          </a:xfrm>
        </p:grpSpPr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2333520" y="3595680"/>
              <a:ext cx="5475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PSText"/>
            <p:cNvSpPr/>
            <p:nvPr/>
          </p:nvSpPr>
          <p:spPr>
            <a:xfrm>
              <a:off x="233352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SArrow"/>
            <p:cNvSpPr/>
            <p:nvPr/>
          </p:nvSpPr>
          <p:spPr>
            <a:xfrm>
              <a:off x="214308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Picture Choice 3"/>
          <p:cNvGrpSpPr/>
          <p:nvPr/>
        </p:nvGrpSpPr>
        <p:grpSpPr>
          <a:xfrm>
            <a:off x="714240" y="4500720"/>
            <a:ext cx="825480" cy="1380960"/>
            <a:chOff x="714240" y="4500720"/>
            <a:chExt cx="825480" cy="1380960"/>
          </a:xfrm>
        </p:grpSpPr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>
              <a:off x="904680" y="4881600"/>
              <a:ext cx="3873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PSText"/>
            <p:cNvSpPr/>
            <p:nvPr/>
          </p:nvSpPr>
          <p:spPr>
            <a:xfrm>
              <a:off x="904680" y="4500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SArrow"/>
            <p:cNvSpPr/>
            <p:nvPr/>
          </p:nvSpPr>
          <p:spPr>
            <a:xfrm>
              <a:off x="714240" y="4754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Picture Choice 4"/>
          <p:cNvGrpSpPr/>
          <p:nvPr/>
        </p:nvGrpSpPr>
        <p:grpSpPr>
          <a:xfrm>
            <a:off x="2071800" y="5214960"/>
            <a:ext cx="825480" cy="1380960"/>
            <a:chOff x="2071800" y="5214960"/>
            <a:chExt cx="825480" cy="1380960"/>
          </a:xfrm>
        </p:grpSpPr>
        <p:pic>
          <p:nvPicPr>
            <p:cNvPr id="238" name="" descr=""/>
            <p:cNvPicPr/>
            <p:nvPr/>
          </p:nvPicPr>
          <p:blipFill>
            <a:blip r:embed="rId7"/>
            <a:stretch/>
          </p:blipFill>
          <p:spPr>
            <a:xfrm>
              <a:off x="2262240" y="5595840"/>
              <a:ext cx="3873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SText"/>
            <p:cNvSpPr/>
            <p:nvPr/>
          </p:nvSpPr>
          <p:spPr>
            <a:xfrm>
              <a:off x="226224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PSArrow"/>
            <p:cNvSpPr/>
            <p:nvPr/>
          </p:nvSpPr>
          <p:spPr>
            <a:xfrm>
              <a:off x="207180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CorShape1"/>
          <p:cNvSpPr/>
          <p:nvPr/>
        </p:nvSpPr>
        <p:spPr>
          <a:xfrm rot="10800000">
            <a:off x="1714320" y="5286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²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xy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                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volume under the plan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x+y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and abov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≤x≤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≤y≤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TPChart"/>
          <p:cNvGraphicFramePr/>
          <p:nvPr/>
        </p:nvGraphicFramePr>
        <p:xfrm>
          <a:off x="4786200" y="2286000"/>
          <a:ext cx="457200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2286000"/>
                    <a:ext cx="45720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095640" y="595440"/>
            <a:ext cx="1857240" cy="795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214440"/>
            <a:ext cx="41148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Picture Choice 1"/>
          <p:cNvGrpSpPr/>
          <p:nvPr/>
        </p:nvGrpSpPr>
        <p:grpSpPr>
          <a:xfrm>
            <a:off x="571680" y="2500200"/>
            <a:ext cx="2047680" cy="1266840"/>
            <a:chOff x="571680" y="2500200"/>
            <a:chExt cx="2047680" cy="1266840"/>
          </a:xfrm>
        </p:grpSpPr>
        <p:pic>
          <p:nvPicPr>
            <p:cNvPr id="248" name="PSPic" descr=""/>
            <p:cNvPicPr/>
            <p:nvPr/>
          </p:nvPicPr>
          <p:blipFill>
            <a:blip r:embed="rId4"/>
            <a:stretch/>
          </p:blipFill>
          <p:spPr>
            <a:xfrm>
              <a:off x="762120" y="2881080"/>
              <a:ext cx="185724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PSText"/>
            <p:cNvSpPr/>
            <p:nvPr/>
          </p:nvSpPr>
          <p:spPr>
            <a:xfrm>
              <a:off x="76212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SArrow"/>
            <p:cNvSpPr/>
            <p:nvPr/>
          </p:nvSpPr>
          <p:spPr>
            <a:xfrm>
              <a:off x="57168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Picture Choice 2"/>
          <p:cNvGrpSpPr/>
          <p:nvPr/>
        </p:nvGrpSpPr>
        <p:grpSpPr>
          <a:xfrm>
            <a:off x="2500200" y="3786120"/>
            <a:ext cx="1990800" cy="1352520"/>
            <a:chOff x="2500200" y="3786120"/>
            <a:chExt cx="1990800" cy="1352520"/>
          </a:xfrm>
        </p:grpSpPr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2690640" y="4167000"/>
              <a:ext cx="18003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PSText"/>
            <p:cNvSpPr/>
            <p:nvPr/>
          </p:nvSpPr>
          <p:spPr>
            <a:xfrm>
              <a:off x="269064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SArrow"/>
            <p:cNvSpPr/>
            <p:nvPr/>
          </p:nvSpPr>
          <p:spPr>
            <a:xfrm>
              <a:off x="250020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Picture Choice 3"/>
          <p:cNvGrpSpPr/>
          <p:nvPr/>
        </p:nvGrpSpPr>
        <p:grpSpPr>
          <a:xfrm>
            <a:off x="603360" y="4857840"/>
            <a:ext cx="896760" cy="1243080"/>
            <a:chOff x="603360" y="4857840"/>
            <a:chExt cx="896760" cy="1243080"/>
          </a:xfrm>
        </p:grpSpPr>
        <p:pic>
          <p:nvPicPr>
            <p:cNvPr id="256" name="" descr=""/>
            <p:cNvPicPr/>
            <p:nvPr/>
          </p:nvPicPr>
          <p:blipFill>
            <a:blip r:embed="rId6"/>
            <a:stretch/>
          </p:blipFill>
          <p:spPr>
            <a:xfrm>
              <a:off x="785880" y="5214960"/>
              <a:ext cx="71424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PSText"/>
            <p:cNvSpPr/>
            <p:nvPr/>
          </p:nvSpPr>
          <p:spPr>
            <a:xfrm>
              <a:off x="793800" y="4857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PSArrow"/>
            <p:cNvSpPr/>
            <p:nvPr/>
          </p:nvSpPr>
          <p:spPr>
            <a:xfrm>
              <a:off x="603360" y="5111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Picture Choice 4"/>
          <p:cNvGrpSpPr/>
          <p:nvPr/>
        </p:nvGrpSpPr>
        <p:grpSpPr>
          <a:xfrm>
            <a:off x="2500200" y="5429160"/>
            <a:ext cx="1028880" cy="1214640"/>
            <a:chOff x="2500200" y="5429160"/>
            <a:chExt cx="1028880" cy="1214640"/>
          </a:xfrm>
        </p:grpSpPr>
        <p:pic>
          <p:nvPicPr>
            <p:cNvPr id="260" name="" descr=""/>
            <p:cNvPicPr/>
            <p:nvPr/>
          </p:nvPicPr>
          <p:blipFill>
            <a:blip r:embed="rId7"/>
            <a:stretch/>
          </p:blipFill>
          <p:spPr>
            <a:xfrm>
              <a:off x="2786040" y="5757840"/>
              <a:ext cx="74304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SText"/>
            <p:cNvSpPr/>
            <p:nvPr/>
          </p:nvSpPr>
          <p:spPr>
            <a:xfrm>
              <a:off x="269064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PSArrow"/>
            <p:cNvSpPr/>
            <p:nvPr/>
          </p:nvSpPr>
          <p:spPr>
            <a:xfrm>
              <a:off x="250020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CorShape1"/>
          <p:cNvSpPr/>
          <p:nvPr/>
        </p:nvSpPr>
        <p:spPr>
          <a:xfrm rot="10800000">
            <a:off x="214200" y="5000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Stokes’ Theor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Picture Choice 1"/>
          <p:cNvGrpSpPr/>
          <p:nvPr/>
        </p:nvGrpSpPr>
        <p:grpSpPr>
          <a:xfrm>
            <a:off x="357120" y="1571760"/>
            <a:ext cx="3135240" cy="1214280"/>
            <a:chOff x="357120" y="1571760"/>
            <a:chExt cx="3135240" cy="1214280"/>
          </a:xfrm>
        </p:grpSpPr>
        <p:pic>
          <p:nvPicPr>
            <p:cNvPr id="269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1952640"/>
              <a:ext cx="294480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PSText"/>
            <p:cNvSpPr/>
            <p:nvPr/>
          </p:nvSpPr>
          <p:spPr>
            <a:xfrm>
              <a:off x="54756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PSArrow"/>
            <p:cNvSpPr/>
            <p:nvPr/>
          </p:nvSpPr>
          <p:spPr>
            <a:xfrm>
              <a:off x="35712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Picture Choice 2"/>
          <p:cNvGrpSpPr/>
          <p:nvPr/>
        </p:nvGrpSpPr>
        <p:grpSpPr>
          <a:xfrm>
            <a:off x="1508040" y="2857680"/>
            <a:ext cx="3135240" cy="1214280"/>
            <a:chOff x="1508040" y="2857680"/>
            <a:chExt cx="3135240" cy="1214280"/>
          </a:xfrm>
        </p:grpSpPr>
        <p:pic>
          <p:nvPicPr>
            <p:cNvPr id="273" name="" descr=""/>
            <p:cNvPicPr/>
            <p:nvPr/>
          </p:nvPicPr>
          <p:blipFill>
            <a:blip r:embed="rId4"/>
            <a:stretch/>
          </p:blipFill>
          <p:spPr>
            <a:xfrm>
              <a:off x="1698480" y="3238560"/>
              <a:ext cx="294480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PSText"/>
            <p:cNvSpPr/>
            <p:nvPr/>
          </p:nvSpPr>
          <p:spPr>
            <a:xfrm>
              <a:off x="169848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PSArrow"/>
            <p:cNvSpPr/>
            <p:nvPr/>
          </p:nvSpPr>
          <p:spPr>
            <a:xfrm>
              <a:off x="150804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Picture Choice 3"/>
          <p:cNvGrpSpPr/>
          <p:nvPr/>
        </p:nvGrpSpPr>
        <p:grpSpPr>
          <a:xfrm>
            <a:off x="285840" y="4000680"/>
            <a:ext cx="3079800" cy="1214280"/>
            <a:chOff x="285840" y="4000680"/>
            <a:chExt cx="3079800" cy="1214280"/>
          </a:xfrm>
        </p:grpSpPr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476280" y="4381560"/>
              <a:ext cx="288936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PSText"/>
            <p:cNvSpPr/>
            <p:nvPr/>
          </p:nvSpPr>
          <p:spPr>
            <a:xfrm>
              <a:off x="476280" y="4000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PSArrow"/>
            <p:cNvSpPr/>
            <p:nvPr/>
          </p:nvSpPr>
          <p:spPr>
            <a:xfrm>
              <a:off x="28584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Picture Choice 4"/>
          <p:cNvGrpSpPr/>
          <p:nvPr/>
        </p:nvGrpSpPr>
        <p:grpSpPr>
          <a:xfrm>
            <a:off x="1428840" y="5143680"/>
            <a:ext cx="3079800" cy="1214280"/>
            <a:chOff x="1428840" y="5143680"/>
            <a:chExt cx="3079800" cy="1214280"/>
          </a:xfrm>
        </p:grpSpPr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1619280" y="5524560"/>
              <a:ext cx="288936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SText"/>
            <p:cNvSpPr/>
            <p:nvPr/>
          </p:nvSpPr>
          <p:spPr>
            <a:xfrm>
              <a:off x="161928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PSArrow"/>
            <p:cNvSpPr/>
            <p:nvPr/>
          </p:nvSpPr>
          <p:spPr>
            <a:xfrm>
              <a:off x="142884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CorShape1"/>
          <p:cNvSpPr/>
          <p:nvPr/>
        </p:nvSpPr>
        <p:spPr>
          <a:xfrm rot="10800000">
            <a:off x="1071360" y="3000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a unit normal to the plane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 + y – 2z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Picture Choice 1"/>
          <p:cNvGrpSpPr/>
          <p:nvPr/>
        </p:nvGrpSpPr>
        <p:grpSpPr>
          <a:xfrm>
            <a:off x="571680" y="1571760"/>
            <a:ext cx="2131920" cy="1162080"/>
            <a:chOff x="571680" y="1571760"/>
            <a:chExt cx="2131920" cy="1162080"/>
          </a:xfrm>
        </p:grpSpPr>
        <p:pic>
          <p:nvPicPr>
            <p:cNvPr id="67" name="PSPic" descr=""/>
            <p:cNvPicPr/>
            <p:nvPr/>
          </p:nvPicPr>
          <p:blipFill>
            <a:blip r:embed="rId3"/>
            <a:stretch/>
          </p:blipFill>
          <p:spPr>
            <a:xfrm>
              <a:off x="762120" y="1952640"/>
              <a:ext cx="19414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PSText"/>
            <p:cNvSpPr/>
            <p:nvPr/>
          </p:nvSpPr>
          <p:spPr>
            <a:xfrm>
              <a:off x="76212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SArrow"/>
            <p:cNvSpPr/>
            <p:nvPr/>
          </p:nvSpPr>
          <p:spPr>
            <a:xfrm>
              <a:off x="57168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Picture Choice 2"/>
          <p:cNvGrpSpPr/>
          <p:nvPr/>
        </p:nvGrpSpPr>
        <p:grpSpPr>
          <a:xfrm>
            <a:off x="1857240" y="2786040"/>
            <a:ext cx="2156040" cy="1162080"/>
            <a:chOff x="1857240" y="2786040"/>
            <a:chExt cx="2156040" cy="1162080"/>
          </a:xfrm>
        </p:grpSpPr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2047680" y="3166920"/>
              <a:ext cx="19656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PSText"/>
            <p:cNvSpPr/>
            <p:nvPr/>
          </p:nvSpPr>
          <p:spPr>
            <a:xfrm>
              <a:off x="204768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SArrow"/>
            <p:cNvSpPr/>
            <p:nvPr/>
          </p:nvSpPr>
          <p:spPr>
            <a:xfrm>
              <a:off x="185724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Picture Choice 3"/>
          <p:cNvGrpSpPr/>
          <p:nvPr/>
        </p:nvGrpSpPr>
        <p:grpSpPr>
          <a:xfrm>
            <a:off x="571680" y="3857760"/>
            <a:ext cx="2606400" cy="1162080"/>
            <a:chOff x="571680" y="3857760"/>
            <a:chExt cx="2606400" cy="1162080"/>
          </a:xfrm>
        </p:grpSpPr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762120" y="4238640"/>
              <a:ext cx="2415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SText"/>
            <p:cNvSpPr/>
            <p:nvPr/>
          </p:nvSpPr>
          <p:spPr>
            <a:xfrm>
              <a:off x="762120" y="38577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SArrow"/>
            <p:cNvSpPr/>
            <p:nvPr/>
          </p:nvSpPr>
          <p:spPr>
            <a:xfrm>
              <a:off x="57168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Picture Choice 4"/>
          <p:cNvGrpSpPr/>
          <p:nvPr/>
        </p:nvGrpSpPr>
        <p:grpSpPr>
          <a:xfrm>
            <a:off x="1857240" y="5143680"/>
            <a:ext cx="2606760" cy="1161720"/>
            <a:chOff x="1857240" y="5143680"/>
            <a:chExt cx="2606760" cy="1161720"/>
          </a:xfrm>
        </p:grpSpPr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2047680" y="5524560"/>
              <a:ext cx="241632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PSText"/>
            <p:cNvSpPr/>
            <p:nvPr/>
          </p:nvSpPr>
          <p:spPr>
            <a:xfrm>
              <a:off x="204768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PSArrow"/>
            <p:cNvSpPr/>
            <p:nvPr/>
          </p:nvSpPr>
          <p:spPr>
            <a:xfrm>
              <a:off x="185724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CorShape1"/>
          <p:cNvSpPr/>
          <p:nvPr/>
        </p:nvSpPr>
        <p:spPr>
          <a:xfrm rot="10800000">
            <a:off x="1428840" y="2928600"/>
            <a:ext cx="417600" cy="4460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can be obtained from Gauss’ L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Picture Choice 1"/>
          <p:cNvGrpSpPr/>
          <p:nvPr/>
        </p:nvGrpSpPr>
        <p:grpSpPr>
          <a:xfrm>
            <a:off x="428760" y="1643040"/>
            <a:ext cx="2047680" cy="1309680"/>
            <a:chOff x="428760" y="1643040"/>
            <a:chExt cx="2047680" cy="1309680"/>
          </a:xfrm>
        </p:grpSpPr>
        <p:pic>
          <p:nvPicPr>
            <p:cNvPr id="290" name="PSPic" descr=""/>
            <p:cNvPicPr/>
            <p:nvPr/>
          </p:nvPicPr>
          <p:blipFill>
            <a:blip r:embed="rId3"/>
            <a:stretch/>
          </p:blipFill>
          <p:spPr>
            <a:xfrm>
              <a:off x="619200" y="2023920"/>
              <a:ext cx="18572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PSText"/>
            <p:cNvSpPr/>
            <p:nvPr/>
          </p:nvSpPr>
          <p:spPr>
            <a:xfrm>
              <a:off x="61920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PSArrow"/>
            <p:cNvSpPr/>
            <p:nvPr/>
          </p:nvSpPr>
          <p:spPr>
            <a:xfrm>
              <a:off x="42876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Picture Choice 2"/>
          <p:cNvGrpSpPr/>
          <p:nvPr/>
        </p:nvGrpSpPr>
        <p:grpSpPr>
          <a:xfrm>
            <a:off x="2143080" y="2714760"/>
            <a:ext cx="2109960" cy="1309680"/>
            <a:chOff x="2143080" y="2714760"/>
            <a:chExt cx="2109960" cy="1309680"/>
          </a:xfrm>
        </p:grpSpPr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2333520" y="3095640"/>
              <a:ext cx="19195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PSText"/>
            <p:cNvSpPr/>
            <p:nvPr/>
          </p:nvSpPr>
          <p:spPr>
            <a:xfrm>
              <a:off x="2333520" y="2714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SArrow"/>
            <p:cNvSpPr/>
            <p:nvPr/>
          </p:nvSpPr>
          <p:spPr>
            <a:xfrm>
              <a:off x="214308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Picture Choice 3"/>
          <p:cNvGrpSpPr/>
          <p:nvPr/>
        </p:nvGrpSpPr>
        <p:grpSpPr>
          <a:xfrm>
            <a:off x="357120" y="3714840"/>
            <a:ext cx="2295720" cy="1309680"/>
            <a:chOff x="357120" y="3714840"/>
            <a:chExt cx="2295720" cy="1309680"/>
          </a:xfrm>
        </p:grpSpPr>
        <p:pic>
          <p:nvPicPr>
            <p:cNvPr id="298" name="" descr=""/>
            <p:cNvPicPr/>
            <p:nvPr/>
          </p:nvPicPr>
          <p:blipFill>
            <a:blip r:embed="rId5"/>
            <a:stretch/>
          </p:blipFill>
          <p:spPr>
            <a:xfrm>
              <a:off x="547560" y="4095720"/>
              <a:ext cx="21052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PSText"/>
            <p:cNvSpPr/>
            <p:nvPr/>
          </p:nvSpPr>
          <p:spPr>
            <a:xfrm>
              <a:off x="54756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PSArrow"/>
            <p:cNvSpPr/>
            <p:nvPr/>
          </p:nvSpPr>
          <p:spPr>
            <a:xfrm>
              <a:off x="35712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Picture Choice 4"/>
          <p:cNvGrpSpPr/>
          <p:nvPr/>
        </p:nvGrpSpPr>
        <p:grpSpPr>
          <a:xfrm>
            <a:off x="2071800" y="4894200"/>
            <a:ext cx="2171520" cy="1463760"/>
            <a:chOff x="2071800" y="4894200"/>
            <a:chExt cx="2171520" cy="1463760"/>
          </a:xfrm>
        </p:grpSpPr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2262240" y="5275080"/>
              <a:ext cx="198108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PSText"/>
            <p:cNvSpPr/>
            <p:nvPr/>
          </p:nvSpPr>
          <p:spPr>
            <a:xfrm>
              <a:off x="2262240" y="4894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PSArrow"/>
            <p:cNvSpPr/>
            <p:nvPr/>
          </p:nvSpPr>
          <p:spPr>
            <a:xfrm>
              <a:off x="2071800" y="5148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 rot="10800000">
            <a:off x="1714320" y="50720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24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TPChart"/>
          <p:cNvGraphicFramePr/>
          <p:nvPr/>
        </p:nvGraphicFramePr>
        <p:xfrm>
          <a:off x="4714920" y="2071800"/>
          <a:ext cx="457200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071800"/>
                    <a:ext cx="457200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714760" y="452520"/>
            <a:ext cx="6111720" cy="10476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428760" y="1214280"/>
            <a:ext cx="84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ound the rectangl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x≤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y≤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using Green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4114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rShape1"/>
          <p:cNvSpPr/>
          <p:nvPr/>
        </p:nvSpPr>
        <p:spPr>
          <a:xfrm rot="10800000">
            <a:off x="172800" y="3581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a unit vector normal to the sphere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 + 3)² + (y – 1)² + 2z² = 5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(0, 0, 1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Picture Choice 1"/>
          <p:cNvGrpSpPr/>
          <p:nvPr/>
        </p:nvGrpSpPr>
        <p:grpSpPr>
          <a:xfrm>
            <a:off x="500040" y="1857240"/>
            <a:ext cx="2251080" cy="1168560"/>
            <a:chOff x="500040" y="1857240"/>
            <a:chExt cx="2251080" cy="1168560"/>
          </a:xfrm>
        </p:grpSpPr>
        <p:pic>
          <p:nvPicPr>
            <p:cNvPr id="88" name="PSPic" descr=""/>
            <p:cNvPicPr/>
            <p:nvPr/>
          </p:nvPicPr>
          <p:blipFill>
            <a:blip r:embed="rId3"/>
            <a:stretch/>
          </p:blipFill>
          <p:spPr>
            <a:xfrm>
              <a:off x="690480" y="2238120"/>
              <a:ext cx="206064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SText"/>
            <p:cNvSpPr/>
            <p:nvPr/>
          </p:nvSpPr>
          <p:spPr>
            <a:xfrm>
              <a:off x="690480" y="1857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SArrow"/>
            <p:cNvSpPr/>
            <p:nvPr/>
          </p:nvSpPr>
          <p:spPr>
            <a:xfrm>
              <a:off x="500040" y="2111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Picture Choice 2"/>
          <p:cNvGrpSpPr/>
          <p:nvPr/>
        </p:nvGrpSpPr>
        <p:grpSpPr>
          <a:xfrm>
            <a:off x="2071800" y="3000240"/>
            <a:ext cx="2112840" cy="1168560"/>
            <a:chOff x="2071800" y="3000240"/>
            <a:chExt cx="2112840" cy="1168560"/>
          </a:xfrm>
        </p:grpSpPr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2262240" y="3381120"/>
              <a:ext cx="192240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PSText"/>
            <p:cNvSpPr/>
            <p:nvPr/>
          </p:nvSpPr>
          <p:spPr>
            <a:xfrm>
              <a:off x="226224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SArrow"/>
            <p:cNvSpPr/>
            <p:nvPr/>
          </p:nvSpPr>
          <p:spPr>
            <a:xfrm>
              <a:off x="207180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Picture Choice 3"/>
          <p:cNvGrpSpPr/>
          <p:nvPr/>
        </p:nvGrpSpPr>
        <p:grpSpPr>
          <a:xfrm>
            <a:off x="500040" y="4214880"/>
            <a:ext cx="2089080" cy="1168200"/>
            <a:chOff x="500040" y="4214880"/>
            <a:chExt cx="2089080" cy="1168200"/>
          </a:xfrm>
        </p:grpSpPr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690480" y="4595760"/>
              <a:ext cx="18986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PSText"/>
            <p:cNvSpPr/>
            <p:nvPr/>
          </p:nvSpPr>
          <p:spPr>
            <a:xfrm>
              <a:off x="69048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SArrow"/>
            <p:cNvSpPr/>
            <p:nvPr/>
          </p:nvSpPr>
          <p:spPr>
            <a:xfrm>
              <a:off x="50004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Picture Choice 4"/>
          <p:cNvGrpSpPr/>
          <p:nvPr/>
        </p:nvGrpSpPr>
        <p:grpSpPr>
          <a:xfrm>
            <a:off x="2000160" y="5143680"/>
            <a:ext cx="1949400" cy="1168200"/>
            <a:chOff x="2000160" y="5143680"/>
            <a:chExt cx="1949400" cy="1168200"/>
          </a:xfrm>
        </p:grpSpPr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2190600" y="5524560"/>
              <a:ext cx="175896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PSText"/>
            <p:cNvSpPr/>
            <p:nvPr/>
          </p:nvSpPr>
          <p:spPr>
            <a:xfrm>
              <a:off x="219060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SArrow"/>
            <p:cNvSpPr/>
            <p:nvPr/>
          </p:nvSpPr>
          <p:spPr>
            <a:xfrm>
              <a:off x="200016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CorShape1"/>
          <p:cNvSpPr/>
          <p:nvPr/>
        </p:nvSpPr>
        <p:spPr>
          <a:xfrm rot="10800000">
            <a:off x="142920" y="1857240"/>
            <a:ext cx="417600" cy="4464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rShape1"/>
          <p:cNvSpPr/>
          <p:nvPr/>
        </p:nvSpPr>
        <p:spPr>
          <a:xfrm rot="10800000">
            <a:off x="214200" y="4214520"/>
            <a:ext cx="417600" cy="4460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vector fields are conserv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xy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y²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3xy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y²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xy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2x²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xy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2xy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2y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x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xy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rShape1"/>
          <p:cNvSpPr/>
          <p:nvPr/>
        </p:nvSpPr>
        <p:spPr>
          <a:xfrm rot="10800000">
            <a:off x="172800" y="2938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rShape2"/>
          <p:cNvSpPr/>
          <p:nvPr/>
        </p:nvSpPr>
        <p:spPr>
          <a:xfrm rot="10800000">
            <a:off x="172800" y="4108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tatements are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Object 4" descr=""/>
          <p:cNvPicPr/>
          <p:nvPr/>
        </p:nvPicPr>
        <p:blipFill>
          <a:blip r:embed="rId3"/>
          <a:stretch/>
        </p:blipFill>
        <p:spPr>
          <a:xfrm>
            <a:off x="928800" y="1500120"/>
            <a:ext cx="833400" cy="857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depends on the end points of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nservative fiel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radient fields are 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071720" y="3233880"/>
            <a:ext cx="1285560" cy="69516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5" descr=""/>
          <p:cNvPicPr/>
          <p:nvPr/>
        </p:nvPicPr>
        <p:blipFill>
          <a:blip r:embed="rId5"/>
          <a:stretch/>
        </p:blipFill>
        <p:spPr>
          <a:xfrm>
            <a:off x="1076400" y="3857760"/>
            <a:ext cx="1280880" cy="417240"/>
          </a:xfrm>
          <a:prstGeom prst="rect">
            <a:avLst/>
          </a:prstGeom>
          <a:ln w="0">
            <a:noFill/>
          </a:ln>
        </p:spPr>
      </p:pic>
      <p:sp>
        <p:nvSpPr>
          <p:cNvPr id="118" name="CorShape1"/>
          <p:cNvSpPr/>
          <p:nvPr/>
        </p:nvSpPr>
        <p:spPr>
          <a:xfrm rot="10800000">
            <a:off x="142560" y="1642680"/>
            <a:ext cx="385560" cy="476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rShape2"/>
          <p:cNvSpPr/>
          <p:nvPr/>
        </p:nvSpPr>
        <p:spPr>
          <a:xfrm rot="10800000">
            <a:off x="82440" y="3909960"/>
            <a:ext cx="417600" cy="4478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rShape3"/>
          <p:cNvSpPr/>
          <p:nvPr/>
        </p:nvSpPr>
        <p:spPr>
          <a:xfrm rot="10800000">
            <a:off x="82440" y="4982760"/>
            <a:ext cx="417600" cy="4460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6160" y="70920"/>
            <a:ext cx="30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62000" y="28584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47149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area beneath the surface z=F(x,y) but above the curve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area beneath the surface z=F(x,y) and below the curve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area above the surface z=F(x,y) and above the curve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area above the surface z=F(x,y) but below the curve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rShape1"/>
          <p:cNvSpPr/>
          <p:nvPr/>
        </p:nvSpPr>
        <p:spPr>
          <a:xfrm rot="10800000">
            <a:off x="0" y="1928880"/>
            <a:ext cx="357120" cy="3571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tatements is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28720" y="2000160"/>
            <a:ext cx="1400040" cy="857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828720" y="3071880"/>
            <a:ext cx="1600200" cy="857160"/>
          </a:xfrm>
          <a:prstGeom prst="rect">
            <a:avLst/>
          </a:prstGeom>
          <a:ln w="0">
            <a:noFill/>
          </a:ln>
        </p:spPr>
      </p:pic>
      <p:sp>
        <p:nvSpPr>
          <p:cNvPr id="132" name="CorShape1"/>
          <p:cNvSpPr/>
          <p:nvPr/>
        </p:nvSpPr>
        <p:spPr>
          <a:xfrm rot="10800000">
            <a:off x="-360" y="2071440"/>
            <a:ext cx="560520" cy="5238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s to a 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s to a 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f the above evaluate to sca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of the above evaluate to sca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                     where C is the curve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²+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rting from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ending at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+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rShape1"/>
          <p:cNvSpPr/>
          <p:nvPr/>
        </p:nvSpPr>
        <p:spPr>
          <a:xfrm rot="10800000">
            <a:off x="172800" y="35938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857240" y="0"/>
            <a:ext cx="22003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920" y="352080"/>
            <a:ext cx="87868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                 where, 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given in terms of the paramet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t²+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arying from 0 to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41148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rShape1"/>
          <p:cNvSpPr/>
          <p:nvPr/>
        </p:nvSpPr>
        <p:spPr>
          <a:xfrm rot="10800000">
            <a:off x="214200" y="2857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85960" y="71280"/>
            <a:ext cx="16430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8T16:39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