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8.png" ContentType="image/png"/>
  <Override PartName="/ppt/media/image1.wmf" ContentType="image/x-wmf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3.png" ContentType="image/png"/>
  <Override PartName="/ppt/media/image2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31.png" ContentType="image/png"/>
  <Override PartName="/ppt/media/image40.wmf" ContentType="image/x-wmf"/>
  <Override PartName="/ppt/media/image55.png" ContentType="image/png"/>
  <Override PartName="/ppt/media/image41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26.png" ContentType="image/png"/>
  <Override PartName="/ppt/media/image49.wmf" ContentType="image/x-wmf"/>
  <Override PartName="/ppt/media/image51.wmf" ContentType="image/x-wmf"/>
  <Override PartName="/ppt/media/image50.wmf" ContentType="image/x-wmf"/>
  <Override PartName="/ppt/media/image30.png" ContentType="image/png"/>
  <Override PartName="/ppt/media/image11.wmf" ContentType="image/x-wmf"/>
  <Override PartName="/ppt/media/image48.wmf" ContentType="image/x-wmf"/>
  <Override PartName="/ppt/media/image42.wmf" ContentType="image/x-wmf"/>
  <Override PartName="/ppt/media/image54.wmf" ContentType="image/x-wmf"/>
  <Override PartName="/ppt/media/image32.png" ContentType="image/png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37.wmf" ContentType="image/x-wmf"/>
  <Override PartName="/ppt/media/image7.wmf" ContentType="image/x-wmf"/>
  <Override PartName="/ppt/media/image52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BAD-F55E-4304-ADE2-F3C98EA9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211-6B2D-4C34-89B3-EA96A0B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C0E-AB2E-4DFA-9184-F52AA7A7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955-9A1E-49DC-B95B-DE1B520D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801-F6BE-40EA-A494-6B5C9D3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08B-EE34-4CCF-A8D3-ECB0750D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212-4E74-4E11-B619-07FF2C8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BFD-D1EF-4F06-9264-9E1AA3CD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BE0-A281-4FC2-8671-A97649DC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DFF-09C1-4591-B871-E5B603A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012-F59F-4B3A-9F57-EAE1483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870-9685-46AC-BCC9-B745112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E3C2-CB7B-4DC4-A6F8-F67DEBDE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without integr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3500280" y="1116000"/>
                <a:ext cx="21434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285720"/>
            <a:ext cx="4114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rShape1"/>
          <p:cNvSpPr/>
          <p:nvPr/>
        </p:nvSpPr>
        <p:spPr>
          <a:xfrm rot="10800000">
            <a:off x="172800" y="393840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          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3679920" y="142920"/>
                <a:ext cx="396396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t xml:space="preserve">dθ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rShape1"/>
          <p:cNvSpPr/>
          <p:nvPr/>
        </p:nvSpPr>
        <p:spPr>
          <a:xfrm rot="10800000">
            <a:off x="172800" y="225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 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 enclosed by                       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359240" y="1785960"/>
          <a:ext cx="472140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9240" y="1785960"/>
                    <a:ext cx="4721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2857680" y="95400"/>
                <a:ext cx="20602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z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5073480" y="1071720"/>
                <a:ext cx="3784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,0</m:t>
                    </m:r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1,0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760" y="20001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rShape1"/>
          <p:cNvSpPr/>
          <p:nvPr/>
        </p:nvSpPr>
        <p:spPr>
          <a:xfrm rot="10800000">
            <a:off x="144360" y="265248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best represents the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a of integration of   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TPChart"/>
          <p:cNvGraphicFramePr/>
          <p:nvPr/>
        </p:nvGraphicFramePr>
        <p:xfrm>
          <a:off x="4508640" y="2071800"/>
          <a:ext cx="45720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71800"/>
                    <a:ext cx="4572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Picture Choice 1"/>
          <p:cNvGrpSpPr/>
          <p:nvPr/>
        </p:nvGrpSpPr>
        <p:grpSpPr>
          <a:xfrm>
            <a:off x="285840" y="1571760"/>
            <a:ext cx="2143080" cy="2319120"/>
            <a:chOff x="285840" y="1571760"/>
            <a:chExt cx="2143080" cy="2319120"/>
          </a:xfrm>
        </p:grpSpPr>
        <p:pic>
          <p:nvPicPr>
            <p:cNvPr id="128" name="PSPic" descr=""/>
            <p:cNvPicPr/>
            <p:nvPr/>
          </p:nvPicPr>
          <p:blipFill>
            <a:blip r:embed="rId3"/>
            <a:srcRect l="0" t="15914" r="25454" b="0"/>
            <a:stretch/>
          </p:blipFill>
          <p:spPr>
            <a:xfrm>
              <a:off x="476280" y="1952640"/>
              <a:ext cx="195264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SText"/>
            <p:cNvSpPr/>
            <p:nvPr/>
          </p:nvSpPr>
          <p:spPr>
            <a:xfrm>
              <a:off x="47628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PSArrow"/>
            <p:cNvSpPr/>
            <p:nvPr/>
          </p:nvSpPr>
          <p:spPr>
            <a:xfrm>
              <a:off x="28584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ture Choice 2"/>
          <p:cNvGrpSpPr/>
          <p:nvPr/>
        </p:nvGrpSpPr>
        <p:grpSpPr>
          <a:xfrm>
            <a:off x="285840" y="4071960"/>
            <a:ext cx="2371680" cy="2276280"/>
            <a:chOff x="285840" y="4071960"/>
            <a:chExt cx="2371680" cy="2276280"/>
          </a:xfrm>
        </p:grpSpPr>
        <p:pic>
          <p:nvPicPr>
            <p:cNvPr id="132" name="PSPic" descr=""/>
            <p:cNvPicPr/>
            <p:nvPr/>
          </p:nvPicPr>
          <p:blipFill>
            <a:blip r:embed="rId4"/>
            <a:srcRect l="0" t="38528" r="26485" b="0"/>
            <a:stretch/>
          </p:blipFill>
          <p:spPr>
            <a:xfrm>
              <a:off x="476280" y="4452840"/>
              <a:ext cx="21812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PSText"/>
            <p:cNvSpPr/>
            <p:nvPr/>
          </p:nvSpPr>
          <p:spPr>
            <a:xfrm>
              <a:off x="47628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SArrow"/>
            <p:cNvSpPr/>
            <p:nvPr/>
          </p:nvSpPr>
          <p:spPr>
            <a:xfrm>
              <a:off x="28584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Picture Choice 3"/>
          <p:cNvGrpSpPr/>
          <p:nvPr/>
        </p:nvGrpSpPr>
        <p:grpSpPr>
          <a:xfrm>
            <a:off x="3143160" y="5715000"/>
            <a:ext cx="1548000" cy="761760"/>
            <a:chOff x="3143160" y="5715000"/>
            <a:chExt cx="1548000" cy="761760"/>
          </a:xfrm>
        </p:grpSpPr>
        <p:sp>
          <p:nvSpPr>
            <p:cNvPr id="136" name="PSPic"/>
            <p:cNvSpPr/>
            <p:nvPr/>
          </p:nvSpPr>
          <p:spPr>
            <a:xfrm>
              <a:off x="3333600" y="6095880"/>
              <a:ext cx="135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k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PSText"/>
            <p:cNvSpPr/>
            <p:nvPr/>
          </p:nvSpPr>
          <p:spPr>
            <a:xfrm>
              <a:off x="3333600" y="5715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PSArrow"/>
            <p:cNvSpPr/>
            <p:nvPr/>
          </p:nvSpPr>
          <p:spPr>
            <a:xfrm>
              <a:off x="3143160" y="5968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429160" y="571680"/>
                <a:ext cx="30006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CorShape1"/>
          <p:cNvSpPr/>
          <p:nvPr/>
        </p:nvSpPr>
        <p:spPr>
          <a:xfrm rot="10800000">
            <a:off x="928440" y="42148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best represents the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a of integration of    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857840" y="2071800"/>
          <a:ext cx="42228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2071800"/>
                    <a:ext cx="42228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Picture Choice 1"/>
          <p:cNvGrpSpPr/>
          <p:nvPr/>
        </p:nvGrpSpPr>
        <p:grpSpPr>
          <a:xfrm>
            <a:off x="357120" y="2071800"/>
            <a:ext cx="2038320" cy="2114280"/>
            <a:chOff x="357120" y="2071800"/>
            <a:chExt cx="2038320" cy="2114280"/>
          </a:xfrm>
        </p:grpSpPr>
        <p:pic>
          <p:nvPicPr>
            <p:cNvPr id="145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2452680"/>
              <a:ext cx="184788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PSText"/>
            <p:cNvSpPr/>
            <p:nvPr/>
          </p:nvSpPr>
          <p:spPr>
            <a:xfrm>
              <a:off x="54756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PSArrow"/>
            <p:cNvSpPr/>
            <p:nvPr/>
          </p:nvSpPr>
          <p:spPr>
            <a:xfrm>
              <a:off x="35712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Picture Choice 2"/>
          <p:cNvGrpSpPr/>
          <p:nvPr/>
        </p:nvGrpSpPr>
        <p:grpSpPr>
          <a:xfrm>
            <a:off x="2928960" y="2214720"/>
            <a:ext cx="1900080" cy="1976400"/>
            <a:chOff x="2928960" y="2214720"/>
            <a:chExt cx="1900080" cy="1976400"/>
          </a:xfrm>
        </p:grpSpPr>
        <p:pic>
          <p:nvPicPr>
            <p:cNvPr id="149" name="PSPic" descr=""/>
            <p:cNvPicPr/>
            <p:nvPr/>
          </p:nvPicPr>
          <p:blipFill>
            <a:blip r:embed="rId4"/>
            <a:stretch/>
          </p:blipFill>
          <p:spPr>
            <a:xfrm>
              <a:off x="3119400" y="2595600"/>
              <a:ext cx="170964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PSText"/>
            <p:cNvSpPr/>
            <p:nvPr/>
          </p:nvSpPr>
          <p:spPr>
            <a:xfrm>
              <a:off x="311940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SArrow"/>
            <p:cNvSpPr/>
            <p:nvPr/>
          </p:nvSpPr>
          <p:spPr>
            <a:xfrm>
              <a:off x="292896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Picture Choice 3"/>
          <p:cNvGrpSpPr/>
          <p:nvPr/>
        </p:nvGrpSpPr>
        <p:grpSpPr>
          <a:xfrm>
            <a:off x="3071880" y="4714920"/>
            <a:ext cx="1952640" cy="1866960"/>
            <a:chOff x="3071880" y="4714920"/>
            <a:chExt cx="1952640" cy="1866960"/>
          </a:xfrm>
        </p:grpSpPr>
        <p:pic>
          <p:nvPicPr>
            <p:cNvPr id="153" name="PSPic" descr=""/>
            <p:cNvPicPr/>
            <p:nvPr/>
          </p:nvPicPr>
          <p:blipFill>
            <a:blip r:embed="rId5"/>
            <a:stretch/>
          </p:blipFill>
          <p:spPr>
            <a:xfrm>
              <a:off x="3262320" y="5095800"/>
              <a:ext cx="176220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SText"/>
            <p:cNvSpPr/>
            <p:nvPr/>
          </p:nvSpPr>
          <p:spPr>
            <a:xfrm>
              <a:off x="326232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SArrow"/>
            <p:cNvSpPr/>
            <p:nvPr/>
          </p:nvSpPr>
          <p:spPr>
            <a:xfrm>
              <a:off x="3071880" y="496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7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6"/>
                  </a:lnTo>
                  <a:lnTo>
                    <a:pt x="16200" y="18268"/>
                  </a:lnTo>
                  <a:arcTo wR="21600" hR="9282" stAng="7260057" swAng="3377952"/>
                  <a:lnTo>
                    <a:pt x="129" y="10294"/>
                  </a:lnTo>
                  <a:arcTo wR="21600" hR="9282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92"/>
                  <a:lnTo>
                    <a:pt x="129" y="10294"/>
                  </a:lnTo>
                  <a:arcTo wR="21600" hR="9282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Picture Choice 4"/>
          <p:cNvGrpSpPr/>
          <p:nvPr/>
        </p:nvGrpSpPr>
        <p:grpSpPr>
          <a:xfrm>
            <a:off x="428760" y="4714920"/>
            <a:ext cx="1833480" cy="1795320"/>
            <a:chOff x="428760" y="4714920"/>
            <a:chExt cx="1833480" cy="1795320"/>
          </a:xfrm>
        </p:grpSpPr>
        <p:pic>
          <p:nvPicPr>
            <p:cNvPr id="157" name="PSPic" descr=""/>
            <p:cNvPicPr/>
            <p:nvPr/>
          </p:nvPicPr>
          <p:blipFill>
            <a:blip r:embed="rId6"/>
            <a:stretch/>
          </p:blipFill>
          <p:spPr>
            <a:xfrm>
              <a:off x="619200" y="5095800"/>
              <a:ext cx="16430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SText"/>
            <p:cNvSpPr/>
            <p:nvPr/>
          </p:nvSpPr>
          <p:spPr>
            <a:xfrm>
              <a:off x="61920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SArrow"/>
            <p:cNvSpPr/>
            <p:nvPr/>
          </p:nvSpPr>
          <p:spPr>
            <a:xfrm>
              <a:off x="428760" y="496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answer tex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5357880" y="571680"/>
                <a:ext cx="32176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CorShape1"/>
          <p:cNvSpPr/>
          <p:nvPr/>
        </p:nvSpPr>
        <p:spPr>
          <a:xfrm rot="10800000">
            <a:off x="1000080" y="2071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best represents the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gion or integration of  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5072040" y="2000160"/>
          <a:ext cx="40086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2000160"/>
                    <a:ext cx="40086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Picture Choice 1"/>
          <p:cNvGrpSpPr/>
          <p:nvPr/>
        </p:nvGrpSpPr>
        <p:grpSpPr>
          <a:xfrm>
            <a:off x="357120" y="1571760"/>
            <a:ext cx="1905120" cy="2504880"/>
            <a:chOff x="357120" y="1571760"/>
            <a:chExt cx="1905120" cy="2504880"/>
          </a:xfrm>
        </p:grpSpPr>
        <p:pic>
          <p:nvPicPr>
            <p:cNvPr id="167" name="PSPic" descr=""/>
            <p:cNvPicPr/>
            <p:nvPr/>
          </p:nvPicPr>
          <p:blipFill>
            <a:blip r:embed="rId3"/>
            <a:stretch/>
          </p:blipFill>
          <p:spPr>
            <a:xfrm>
              <a:off x="525240" y="1910520"/>
              <a:ext cx="1737000" cy="21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SText"/>
            <p:cNvSpPr/>
            <p:nvPr/>
          </p:nvSpPr>
          <p:spPr>
            <a:xfrm>
              <a:off x="525240" y="1571760"/>
              <a:ext cx="560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SArrow"/>
            <p:cNvSpPr/>
            <p:nvPr/>
          </p:nvSpPr>
          <p:spPr>
            <a:xfrm>
              <a:off x="357120" y="1797120"/>
              <a:ext cx="168120" cy="452160"/>
            </a:xfrm>
            <a:custGeom>
              <a:avLst/>
              <a:gdLst>
                <a:gd name="textAreaLeft" fmla="*/ 22320 w 168120"/>
                <a:gd name="textAreaRight" fmla="*/ 145800 w 168120"/>
                <a:gd name="textAreaTop" fmla="*/ 97200 h 452160"/>
                <a:gd name="textAreaBottom" fmla="*/ 33408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Picture Choice 2"/>
          <p:cNvGrpSpPr/>
          <p:nvPr/>
        </p:nvGrpSpPr>
        <p:grpSpPr>
          <a:xfrm>
            <a:off x="2857680" y="1571760"/>
            <a:ext cx="1785600" cy="2462040"/>
            <a:chOff x="2857680" y="1571760"/>
            <a:chExt cx="1785600" cy="2462040"/>
          </a:xfrm>
        </p:grpSpPr>
        <p:pic>
          <p:nvPicPr>
            <p:cNvPr id="171" name="PSPic" descr=""/>
            <p:cNvPicPr/>
            <p:nvPr/>
          </p:nvPicPr>
          <p:blipFill>
            <a:blip r:embed="rId4"/>
            <a:stretch/>
          </p:blipFill>
          <p:spPr>
            <a:xfrm>
              <a:off x="3012120" y="1893600"/>
              <a:ext cx="1631160" cy="21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SText"/>
            <p:cNvSpPr/>
            <p:nvPr/>
          </p:nvSpPr>
          <p:spPr>
            <a:xfrm>
              <a:off x="3012120" y="1571760"/>
              <a:ext cx="5155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PSArrow"/>
            <p:cNvSpPr/>
            <p:nvPr/>
          </p:nvSpPr>
          <p:spPr>
            <a:xfrm>
              <a:off x="2857680" y="1785960"/>
              <a:ext cx="153720" cy="428400"/>
            </a:xfrm>
            <a:custGeom>
              <a:avLst/>
              <a:gdLst>
                <a:gd name="textAreaLeft" fmla="*/ 20520 w 153720"/>
                <a:gd name="textAreaRight" fmla="*/ 133200 w 153720"/>
                <a:gd name="textAreaTop" fmla="*/ 92160 h 428400"/>
                <a:gd name="textAreaBottom" fmla="*/ 31644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6" stAng="-5400000" swAng="-5400000"/>
                  <a:lnTo>
                    <a:pt x="0" y="11305"/>
                  </a:lnTo>
                  <a:arcTo wR="21600" hR="9286" stAng="10800000" swAng="-3540679"/>
                  <a:lnTo>
                    <a:pt x="16200" y="21305"/>
                  </a:lnTo>
                  <a:lnTo>
                    <a:pt x="21600" y="19582"/>
                  </a:lnTo>
                  <a:lnTo>
                    <a:pt x="16200" y="17268"/>
                  </a:lnTo>
                  <a:lnTo>
                    <a:pt x="16200" y="18277"/>
                  </a:lnTo>
                  <a:arcTo wR="21600" hR="9286" stAng="7259321" swAng="3379173"/>
                  <a:lnTo>
                    <a:pt x="128" y="10296"/>
                  </a:lnTo>
                  <a:arcTo wR="21600" hR="9286" stAng="-10638494" swAng="5238494"/>
                  <a:close/>
                </a:path>
                <a:path fill="darkenLess" w="21600" h="21600">
                  <a:moveTo>
                    <a:pt x="21600" y="0"/>
                  </a:moveTo>
                  <a:arcTo wR="21600" hR="9286" stAng="-5400000" swAng="-5400000"/>
                  <a:lnTo>
                    <a:pt x="0" y="9286"/>
                  </a:lnTo>
                  <a:arcTo wR="21600" hR="9286" stAng="10800000" swAng="-161506"/>
                  <a:lnTo>
                    <a:pt x="128" y="10296"/>
                  </a:lnTo>
                  <a:arcTo wR="21600" hR="9286" stAng="-10638494" swAng="523849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Picture Choice 3"/>
          <p:cNvGrpSpPr/>
          <p:nvPr/>
        </p:nvGrpSpPr>
        <p:grpSpPr>
          <a:xfrm>
            <a:off x="428760" y="4071960"/>
            <a:ext cx="1785960" cy="2557440"/>
            <a:chOff x="428760" y="4071960"/>
            <a:chExt cx="1785960" cy="2557440"/>
          </a:xfrm>
        </p:grpSpPr>
        <p:pic>
          <p:nvPicPr>
            <p:cNvPr id="175" name="PSPic" descr=""/>
            <p:cNvPicPr/>
            <p:nvPr/>
          </p:nvPicPr>
          <p:blipFill>
            <a:blip r:embed="rId5"/>
            <a:stretch/>
          </p:blipFill>
          <p:spPr>
            <a:xfrm>
              <a:off x="578880" y="4395600"/>
              <a:ext cx="163584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SText"/>
            <p:cNvSpPr/>
            <p:nvPr/>
          </p:nvSpPr>
          <p:spPr>
            <a:xfrm>
              <a:off x="578880" y="4071960"/>
              <a:ext cx="5011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SArrow"/>
            <p:cNvSpPr/>
            <p:nvPr/>
          </p:nvSpPr>
          <p:spPr>
            <a:xfrm>
              <a:off x="428760" y="4287600"/>
              <a:ext cx="150840" cy="431640"/>
            </a:xfrm>
            <a:custGeom>
              <a:avLst/>
              <a:gdLst>
                <a:gd name="textAreaLeft" fmla="*/ 20160 w 150840"/>
                <a:gd name="textAreaRight" fmla="*/ 130680 w 150840"/>
                <a:gd name="textAreaTop" fmla="*/ 92520 h 431640"/>
                <a:gd name="textAreaBottom" fmla="*/ 3186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8" stAng="-5400000" swAng="-5400000"/>
                  <a:lnTo>
                    <a:pt x="0" y="11307"/>
                  </a:lnTo>
                  <a:arcTo wR="21600" hR="9278" stAng="10800000" swAng="-3539371"/>
                  <a:lnTo>
                    <a:pt x="16200" y="21305"/>
                  </a:lnTo>
                  <a:lnTo>
                    <a:pt x="21600" y="19571"/>
                  </a:lnTo>
                  <a:lnTo>
                    <a:pt x="16200" y="17246"/>
                  </a:lnTo>
                  <a:lnTo>
                    <a:pt x="16200" y="18261"/>
                  </a:lnTo>
                  <a:arcTo wR="21600" hR="9278" stAng="7260629" swAng="3377055"/>
                  <a:lnTo>
                    <a:pt x="130" y="10293"/>
                  </a:lnTo>
                  <a:arcTo wR="21600" hR="9278" stAng="-10637684" swAng="5237684"/>
                  <a:close/>
                </a:path>
                <a:path fill="darkenLess" w="21600" h="21600">
                  <a:moveTo>
                    <a:pt x="21600" y="0"/>
                  </a:moveTo>
                  <a:arcTo wR="21600" hR="9278" stAng="-5400000" swAng="-5400000"/>
                  <a:lnTo>
                    <a:pt x="0" y="9278"/>
                  </a:lnTo>
                  <a:arcTo wR="21600" hR="9278" stAng="10800000" swAng="-162316"/>
                  <a:lnTo>
                    <a:pt x="130" y="10293"/>
                  </a:lnTo>
                  <a:arcTo wR="21600" hR="9278" stAng="-10637684" swAng="523768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icture Choice 4"/>
          <p:cNvGrpSpPr/>
          <p:nvPr/>
        </p:nvGrpSpPr>
        <p:grpSpPr>
          <a:xfrm>
            <a:off x="2857680" y="4143240"/>
            <a:ext cx="1857240" cy="2478240"/>
            <a:chOff x="2857680" y="4143240"/>
            <a:chExt cx="1857240" cy="2478240"/>
          </a:xfrm>
        </p:grpSpPr>
        <p:pic>
          <p:nvPicPr>
            <p:cNvPr id="179" name="PSPic" descr=""/>
            <p:cNvPicPr/>
            <p:nvPr/>
          </p:nvPicPr>
          <p:blipFill>
            <a:blip r:embed="rId6"/>
            <a:stretch/>
          </p:blipFill>
          <p:spPr>
            <a:xfrm>
              <a:off x="3018960" y="4467960"/>
              <a:ext cx="1695960" cy="215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SText"/>
            <p:cNvSpPr/>
            <p:nvPr/>
          </p:nvSpPr>
          <p:spPr>
            <a:xfrm>
              <a:off x="3018960" y="4143240"/>
              <a:ext cx="53820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SArrow"/>
            <p:cNvSpPr/>
            <p:nvPr/>
          </p:nvSpPr>
          <p:spPr>
            <a:xfrm>
              <a:off x="2857680" y="4358880"/>
              <a:ext cx="161640" cy="433440"/>
            </a:xfrm>
            <a:custGeom>
              <a:avLst/>
              <a:gdLst>
                <a:gd name="textAreaLeft" fmla="*/ 21600 w 161640"/>
                <a:gd name="textAreaRight" fmla="*/ 140040 w 161640"/>
                <a:gd name="textAreaTop" fmla="*/ 92880 h 433440"/>
                <a:gd name="textAreaBottom" fmla="*/ 3200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9" stAng="-5400000" swAng="-5400000"/>
                  <a:lnTo>
                    <a:pt x="0" y="11308"/>
                  </a:lnTo>
                  <a:arcTo wR="21600" hR="9279" stAng="10800000" swAng="-3539453"/>
                  <a:lnTo>
                    <a:pt x="16200" y="21305"/>
                  </a:lnTo>
                  <a:lnTo>
                    <a:pt x="21600" y="19572"/>
                  </a:lnTo>
                  <a:lnTo>
                    <a:pt x="16200" y="17248"/>
                  </a:lnTo>
                  <a:lnTo>
                    <a:pt x="16200" y="18262"/>
                  </a:lnTo>
                  <a:arcTo wR="21600" hR="9279" stAng="7260547" swAng="3377137"/>
                  <a:lnTo>
                    <a:pt x="130" y="10293"/>
                  </a:lnTo>
                  <a:arcTo wR="21600" hR="9279" stAng="-10637684" swAng="5237684"/>
                  <a:close/>
                </a:path>
                <a:path fill="darkenLess" w="21600" h="21600">
                  <a:moveTo>
                    <a:pt x="21600" y="0"/>
                  </a:moveTo>
                  <a:arcTo wR="21600" hR="9279" stAng="-5400000" swAng="-5400000"/>
                  <a:lnTo>
                    <a:pt x="0" y="9279"/>
                  </a:lnTo>
                  <a:arcTo wR="21600" hR="9279" stAng="10800000" swAng="-162316"/>
                  <a:lnTo>
                    <a:pt x="130" y="10293"/>
                  </a:lnTo>
                  <a:arcTo wR="21600" hR="9279" stAng="-10637684" swAng="523768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Choi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5572080" y="409680"/>
                <a:ext cx="30006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CorShape1"/>
          <p:cNvSpPr/>
          <p:nvPr/>
        </p:nvSpPr>
        <p:spPr>
          <a:xfrm rot="10800000">
            <a:off x="928440" y="15001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best represents the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gion or integration of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TPChart"/>
          <p:cNvGraphicFramePr/>
          <p:nvPr/>
        </p:nvGraphicFramePr>
        <p:xfrm>
          <a:off x="5143680" y="2286000"/>
          <a:ext cx="40003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286000"/>
                    <a:ext cx="4000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Picture Choice 1"/>
          <p:cNvGrpSpPr/>
          <p:nvPr/>
        </p:nvGrpSpPr>
        <p:grpSpPr>
          <a:xfrm>
            <a:off x="285840" y="1747800"/>
            <a:ext cx="2286000" cy="2395440"/>
            <a:chOff x="285840" y="1747800"/>
            <a:chExt cx="2286000" cy="2395440"/>
          </a:xfrm>
        </p:grpSpPr>
        <p:pic>
          <p:nvPicPr>
            <p:cNvPr id="190" name="PSPic" descr=""/>
            <p:cNvPicPr/>
            <p:nvPr/>
          </p:nvPicPr>
          <p:blipFill>
            <a:blip r:embed="rId3"/>
            <a:stretch/>
          </p:blipFill>
          <p:spPr>
            <a:xfrm>
              <a:off x="489240" y="2140200"/>
              <a:ext cx="2082600" cy="20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SText"/>
            <p:cNvSpPr/>
            <p:nvPr/>
          </p:nvSpPr>
          <p:spPr>
            <a:xfrm>
              <a:off x="489240" y="1747800"/>
              <a:ext cx="6778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PSArrow"/>
            <p:cNvSpPr/>
            <p:nvPr/>
          </p:nvSpPr>
          <p:spPr>
            <a:xfrm>
              <a:off x="285840" y="2009520"/>
              <a:ext cx="203040" cy="523800"/>
            </a:xfrm>
            <a:custGeom>
              <a:avLst/>
              <a:gdLst>
                <a:gd name="textAreaLeft" fmla="*/ 27000 w 203040"/>
                <a:gd name="textAreaRight" fmla="*/ 176040 w 203040"/>
                <a:gd name="textAreaTop" fmla="*/ 112320 h 523800"/>
                <a:gd name="textAreaBottom" fmla="*/ 38664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4" stAng="-5400000" swAng="-5400000"/>
                  <a:lnTo>
                    <a:pt x="0" y="11306"/>
                  </a:lnTo>
                  <a:arcTo wR="21600" hR="9284" stAng="10800000" swAng="-3540270"/>
                  <a:lnTo>
                    <a:pt x="16200" y="21305"/>
                  </a:lnTo>
                  <a:lnTo>
                    <a:pt x="21600" y="19578"/>
                  </a:lnTo>
                  <a:lnTo>
                    <a:pt x="16200" y="17261"/>
                  </a:lnTo>
                  <a:lnTo>
                    <a:pt x="16200" y="18272"/>
                  </a:lnTo>
                  <a:arcTo wR="21600" hR="9284" stAng="7259730" swAng="3378521"/>
                  <a:lnTo>
                    <a:pt x="128" y="10294"/>
                  </a:lnTo>
                  <a:arcTo wR="21600" hR="9284" stAng="-10638251" swAng="5238251"/>
                  <a:close/>
                </a:path>
                <a:path fill="darkenLess" w="21600" h="21600">
                  <a:moveTo>
                    <a:pt x="21600" y="0"/>
                  </a:moveTo>
                  <a:arcTo wR="21600" hR="9284" stAng="-5400000" swAng="-5400000"/>
                  <a:lnTo>
                    <a:pt x="0" y="9284"/>
                  </a:lnTo>
                  <a:arcTo wR="21600" hR="9284" stAng="10800000" swAng="-161749"/>
                  <a:lnTo>
                    <a:pt x="128" y="10294"/>
                  </a:lnTo>
                  <a:arcTo wR="21600" hR="9284" stAng="-10638251" swAng="5238251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Picture Choice 2"/>
          <p:cNvGrpSpPr/>
          <p:nvPr/>
        </p:nvGrpSpPr>
        <p:grpSpPr>
          <a:xfrm>
            <a:off x="2857680" y="1738440"/>
            <a:ext cx="2143080" cy="2333520"/>
            <a:chOff x="2857680" y="1738440"/>
            <a:chExt cx="2143080" cy="2333520"/>
          </a:xfrm>
        </p:grpSpPr>
        <p:pic>
          <p:nvPicPr>
            <p:cNvPr id="194" name="PSPic" descr=""/>
            <p:cNvPicPr/>
            <p:nvPr/>
          </p:nvPicPr>
          <p:blipFill>
            <a:blip r:embed="rId4"/>
            <a:stretch/>
          </p:blipFill>
          <p:spPr>
            <a:xfrm>
              <a:off x="3048120" y="2119320"/>
              <a:ext cx="195264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SText"/>
            <p:cNvSpPr/>
            <p:nvPr/>
          </p:nvSpPr>
          <p:spPr>
            <a:xfrm>
              <a:off x="3048120" y="17384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PSArrow"/>
            <p:cNvSpPr/>
            <p:nvPr/>
          </p:nvSpPr>
          <p:spPr>
            <a:xfrm>
              <a:off x="2857680" y="1992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Picture Choice 3"/>
          <p:cNvGrpSpPr/>
          <p:nvPr/>
        </p:nvGrpSpPr>
        <p:grpSpPr>
          <a:xfrm>
            <a:off x="309600" y="4214880"/>
            <a:ext cx="2309760" cy="2500200"/>
            <a:chOff x="309600" y="4214880"/>
            <a:chExt cx="2309760" cy="2500200"/>
          </a:xfrm>
        </p:grpSpPr>
        <p:pic>
          <p:nvPicPr>
            <p:cNvPr id="198" name="PSPic" descr=""/>
            <p:cNvPicPr/>
            <p:nvPr/>
          </p:nvPicPr>
          <p:blipFill>
            <a:blip r:embed="rId5"/>
            <a:stretch/>
          </p:blipFill>
          <p:spPr>
            <a:xfrm>
              <a:off x="500040" y="4595760"/>
              <a:ext cx="211932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SText"/>
            <p:cNvSpPr/>
            <p:nvPr/>
          </p:nvSpPr>
          <p:spPr>
            <a:xfrm>
              <a:off x="50004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PSArrow"/>
            <p:cNvSpPr/>
            <p:nvPr/>
          </p:nvSpPr>
          <p:spPr>
            <a:xfrm>
              <a:off x="30960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Picture Choice 4"/>
          <p:cNvGrpSpPr/>
          <p:nvPr/>
        </p:nvGrpSpPr>
        <p:grpSpPr>
          <a:xfrm>
            <a:off x="2786040" y="4210200"/>
            <a:ext cx="2386080" cy="2576520"/>
            <a:chOff x="2786040" y="4210200"/>
            <a:chExt cx="2386080" cy="2576520"/>
          </a:xfrm>
        </p:grpSpPr>
        <p:pic>
          <p:nvPicPr>
            <p:cNvPr id="202" name="PSPic" descr=""/>
            <p:cNvPicPr/>
            <p:nvPr/>
          </p:nvPicPr>
          <p:blipFill>
            <a:blip r:embed="rId6"/>
            <a:stretch/>
          </p:blipFill>
          <p:spPr>
            <a:xfrm>
              <a:off x="2976480" y="4591080"/>
              <a:ext cx="219564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PSText"/>
            <p:cNvSpPr/>
            <p:nvPr/>
          </p:nvSpPr>
          <p:spPr>
            <a:xfrm>
              <a:off x="2976480" y="421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SArrow"/>
            <p:cNvSpPr/>
            <p:nvPr/>
          </p:nvSpPr>
          <p:spPr>
            <a:xfrm>
              <a:off x="2786040" y="446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5945040" y="642960"/>
                <a:ext cx="26276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CorShape1"/>
          <p:cNvSpPr/>
          <p:nvPr/>
        </p:nvSpPr>
        <p:spPr>
          <a:xfrm rot="10800000">
            <a:off x="3357360" y="42148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best represents the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gion or integration of      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TPChart"/>
          <p:cNvGraphicFramePr/>
          <p:nvPr/>
        </p:nvGraphicFramePr>
        <p:xfrm>
          <a:off x="4883040" y="2071800"/>
          <a:ext cx="41976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2071800"/>
                    <a:ext cx="41976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Picture Choice 1"/>
          <p:cNvGrpSpPr/>
          <p:nvPr/>
        </p:nvGrpSpPr>
        <p:grpSpPr>
          <a:xfrm>
            <a:off x="142920" y="1500120"/>
            <a:ext cx="2143080" cy="2576520"/>
            <a:chOff x="142920" y="1500120"/>
            <a:chExt cx="2143080" cy="2576520"/>
          </a:xfrm>
        </p:grpSpPr>
        <p:pic>
          <p:nvPicPr>
            <p:cNvPr id="212" name="PSPic" descr=""/>
            <p:cNvPicPr/>
            <p:nvPr/>
          </p:nvPicPr>
          <p:blipFill>
            <a:blip r:embed="rId3"/>
            <a:stretch/>
          </p:blipFill>
          <p:spPr>
            <a:xfrm>
              <a:off x="331200" y="1860840"/>
              <a:ext cx="1954800" cy="22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SText"/>
            <p:cNvSpPr/>
            <p:nvPr/>
          </p:nvSpPr>
          <p:spPr>
            <a:xfrm>
              <a:off x="331200" y="1500120"/>
              <a:ext cx="6278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SArrow"/>
            <p:cNvSpPr/>
            <p:nvPr/>
          </p:nvSpPr>
          <p:spPr>
            <a:xfrm>
              <a:off x="142920" y="1741320"/>
              <a:ext cx="188640" cy="480960"/>
            </a:xfrm>
            <a:custGeom>
              <a:avLst/>
              <a:gdLst>
                <a:gd name="textAreaLeft" fmla="*/ 25200 w 188640"/>
                <a:gd name="textAreaRight" fmla="*/ 163440 w 188640"/>
                <a:gd name="textAreaTop" fmla="*/ 103320 h 480960"/>
                <a:gd name="textAreaBottom" fmla="*/ 3553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6" stAng="-5400000" swAng="-5400000"/>
                  <a:lnTo>
                    <a:pt x="0" y="11308"/>
                  </a:lnTo>
                  <a:arcTo wR="21600" hR="9276" stAng="10800000" swAng="-3539044"/>
                  <a:lnTo>
                    <a:pt x="16200" y="21305"/>
                  </a:lnTo>
                  <a:lnTo>
                    <a:pt x="21600" y="19568"/>
                  </a:lnTo>
                  <a:lnTo>
                    <a:pt x="16200" y="17241"/>
                  </a:lnTo>
                  <a:lnTo>
                    <a:pt x="16200" y="18257"/>
                  </a:lnTo>
                  <a:arcTo wR="21600" hR="9276" stAng="7260956" swAng="3376485"/>
                  <a:lnTo>
                    <a:pt x="130" y="10292"/>
                  </a:lnTo>
                  <a:arcTo wR="21600" hR="9276" stAng="-10637441" swAng="5237441"/>
                  <a:close/>
                </a:path>
                <a:path fill="darkenLess" w="21600" h="21600">
                  <a:moveTo>
                    <a:pt x="21600" y="0"/>
                  </a:moveTo>
                  <a:arcTo wR="21600" hR="9276" stAng="-5400000" swAng="-5400000"/>
                  <a:lnTo>
                    <a:pt x="0" y="9276"/>
                  </a:lnTo>
                  <a:arcTo wR="21600" hR="9276" stAng="10800000" swAng="-162559"/>
                  <a:lnTo>
                    <a:pt x="130" y="10292"/>
                  </a:lnTo>
                  <a:arcTo wR="21600" hR="9276" stAng="-10637441" swAng="5237441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Picture Choice 2"/>
          <p:cNvGrpSpPr/>
          <p:nvPr/>
        </p:nvGrpSpPr>
        <p:grpSpPr>
          <a:xfrm>
            <a:off x="2428920" y="1500120"/>
            <a:ext cx="2143080" cy="2581200"/>
            <a:chOff x="2428920" y="1500120"/>
            <a:chExt cx="2143080" cy="2581200"/>
          </a:xfrm>
        </p:grpSpPr>
        <p:pic>
          <p:nvPicPr>
            <p:cNvPr id="216" name="PSPic" descr=""/>
            <p:cNvPicPr/>
            <p:nvPr/>
          </p:nvPicPr>
          <p:blipFill>
            <a:blip r:embed="rId4"/>
            <a:stretch/>
          </p:blipFill>
          <p:spPr>
            <a:xfrm>
              <a:off x="2613600" y="1860840"/>
              <a:ext cx="1958400" cy="22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SText"/>
            <p:cNvSpPr/>
            <p:nvPr/>
          </p:nvSpPr>
          <p:spPr>
            <a:xfrm>
              <a:off x="2613600" y="1500120"/>
              <a:ext cx="61632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SArrow"/>
            <p:cNvSpPr/>
            <p:nvPr/>
          </p:nvSpPr>
          <p:spPr>
            <a:xfrm>
              <a:off x="2428920" y="1741320"/>
              <a:ext cx="185760" cy="480960"/>
            </a:xfrm>
            <a:custGeom>
              <a:avLst/>
              <a:gdLst>
                <a:gd name="textAreaLeft" fmla="*/ 24840 w 185760"/>
                <a:gd name="textAreaRight" fmla="*/ 160920 w 185760"/>
                <a:gd name="textAreaTop" fmla="*/ 103320 h 480960"/>
                <a:gd name="textAreaBottom" fmla="*/ 35496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4" stAng="-5400000" swAng="-5400000"/>
                  <a:lnTo>
                    <a:pt x="0" y="11308"/>
                  </a:lnTo>
                  <a:arcTo wR="21600" hR="9274" stAng="10800000" swAng="-3538716"/>
                  <a:lnTo>
                    <a:pt x="16200" y="21306"/>
                  </a:lnTo>
                  <a:lnTo>
                    <a:pt x="21600" y="19565"/>
                  </a:lnTo>
                  <a:lnTo>
                    <a:pt x="16200" y="17236"/>
                  </a:lnTo>
                  <a:lnTo>
                    <a:pt x="16200" y="18254"/>
                  </a:lnTo>
                  <a:arcTo wR="21600" hR="9274" stAng="7261284" swAng="3375995"/>
                  <a:lnTo>
                    <a:pt x="130" y="10291"/>
                  </a:lnTo>
                  <a:arcTo wR="21600" hR="9274" stAng="-10637279" swAng="5237279"/>
                  <a:close/>
                </a:path>
                <a:path fill="darkenLess" w="21600" h="21600">
                  <a:moveTo>
                    <a:pt x="21600" y="0"/>
                  </a:moveTo>
                  <a:arcTo wR="21600" hR="9274" stAng="-5400000" swAng="-5400000"/>
                  <a:lnTo>
                    <a:pt x="0" y="9274"/>
                  </a:lnTo>
                  <a:arcTo wR="21600" hR="9274" stAng="10800000" swAng="-162721"/>
                  <a:lnTo>
                    <a:pt x="130" y="10291"/>
                  </a:lnTo>
                  <a:arcTo wR="21600" hR="9274" stAng="-10637279" swAng="523727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Picture Choice 3"/>
          <p:cNvGrpSpPr/>
          <p:nvPr/>
        </p:nvGrpSpPr>
        <p:grpSpPr>
          <a:xfrm>
            <a:off x="142920" y="4191120"/>
            <a:ext cx="2071800" cy="2452680"/>
            <a:chOff x="142920" y="4191120"/>
            <a:chExt cx="2071800" cy="2452680"/>
          </a:xfrm>
        </p:grpSpPr>
        <p:pic>
          <p:nvPicPr>
            <p:cNvPr id="220" name="PSPic" descr=""/>
            <p:cNvPicPr/>
            <p:nvPr/>
          </p:nvPicPr>
          <p:blipFill>
            <a:blip r:embed="rId5"/>
            <a:stretch/>
          </p:blipFill>
          <p:spPr>
            <a:xfrm>
              <a:off x="329760" y="4541400"/>
              <a:ext cx="1884960" cy="21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SText"/>
            <p:cNvSpPr/>
            <p:nvPr/>
          </p:nvSpPr>
          <p:spPr>
            <a:xfrm>
              <a:off x="329760" y="4191120"/>
              <a:ext cx="6235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SArrow"/>
            <p:cNvSpPr/>
            <p:nvPr/>
          </p:nvSpPr>
          <p:spPr>
            <a:xfrm>
              <a:off x="142920" y="4424400"/>
              <a:ext cx="187200" cy="466560"/>
            </a:xfrm>
            <a:custGeom>
              <a:avLst/>
              <a:gdLst>
                <a:gd name="textAreaLeft" fmla="*/ 24840 w 187200"/>
                <a:gd name="textAreaRight" fmla="*/ 162360 w 187200"/>
                <a:gd name="textAreaTop" fmla="*/ 100080 h 466560"/>
                <a:gd name="textAreaBottom" fmla="*/ 3445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8" stAng="-5400000" swAng="-5400000"/>
                  <a:lnTo>
                    <a:pt x="0" y="11307"/>
                  </a:lnTo>
                  <a:arcTo wR="21600" hR="9278" stAng="10800000" swAng="-3539371"/>
                  <a:lnTo>
                    <a:pt x="16200" y="21305"/>
                  </a:lnTo>
                  <a:lnTo>
                    <a:pt x="21600" y="19571"/>
                  </a:lnTo>
                  <a:lnTo>
                    <a:pt x="16200" y="17246"/>
                  </a:lnTo>
                  <a:lnTo>
                    <a:pt x="16200" y="18261"/>
                  </a:lnTo>
                  <a:arcTo wR="21600" hR="9278" stAng="7260629" swAng="3377055"/>
                  <a:lnTo>
                    <a:pt x="130" y="10293"/>
                  </a:lnTo>
                  <a:arcTo wR="21600" hR="9278" stAng="-10637684" swAng="5237684"/>
                  <a:close/>
                </a:path>
                <a:path fill="darkenLess" w="21600" h="21600">
                  <a:moveTo>
                    <a:pt x="21600" y="0"/>
                  </a:moveTo>
                  <a:arcTo wR="21600" hR="9278" stAng="-5400000" swAng="-5400000"/>
                  <a:lnTo>
                    <a:pt x="0" y="9278"/>
                  </a:lnTo>
                  <a:arcTo wR="21600" hR="9278" stAng="10800000" swAng="-162316"/>
                  <a:lnTo>
                    <a:pt x="130" y="10293"/>
                  </a:lnTo>
                  <a:arcTo wR="21600" hR="9278" stAng="-10637684" swAng="523768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Picture Choice 4"/>
          <p:cNvGrpSpPr/>
          <p:nvPr/>
        </p:nvGrpSpPr>
        <p:grpSpPr>
          <a:xfrm>
            <a:off x="2643120" y="4141800"/>
            <a:ext cx="2000160" cy="2502000"/>
            <a:chOff x="2643120" y="4141800"/>
            <a:chExt cx="2000160" cy="2502000"/>
          </a:xfrm>
        </p:grpSpPr>
        <p:pic>
          <p:nvPicPr>
            <p:cNvPr id="224" name="PSPic" descr=""/>
            <p:cNvPicPr/>
            <p:nvPr/>
          </p:nvPicPr>
          <p:blipFill>
            <a:blip r:embed="rId6"/>
            <a:stretch/>
          </p:blipFill>
          <p:spPr>
            <a:xfrm>
              <a:off x="2822040" y="4492440"/>
              <a:ext cx="1821240" cy="21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SText"/>
            <p:cNvSpPr/>
            <p:nvPr/>
          </p:nvSpPr>
          <p:spPr>
            <a:xfrm>
              <a:off x="2822040" y="4141800"/>
              <a:ext cx="597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PSArrow"/>
            <p:cNvSpPr/>
            <p:nvPr/>
          </p:nvSpPr>
          <p:spPr>
            <a:xfrm>
              <a:off x="2643120" y="4375080"/>
              <a:ext cx="179280" cy="46836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100440 h 468360"/>
                <a:gd name="textAreaBottom" fmla="*/ 34596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5479920" y="642960"/>
                <a:ext cx="35578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CorShape1"/>
          <p:cNvSpPr/>
          <p:nvPr/>
        </p:nvSpPr>
        <p:spPr>
          <a:xfrm rot="10800000">
            <a:off x="714240" y="4214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uble integral is obtained when the order of integration is 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rsed        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TPChart"/>
          <p:cNvGraphicFramePr/>
          <p:nvPr/>
        </p:nvGraphicFramePr>
        <p:xfrm>
          <a:off x="5857920" y="1928880"/>
          <a:ext cx="322272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1928880"/>
                    <a:ext cx="322272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3857760" y="942840"/>
                <a:ext cx="33955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Picture Choice 1"/>
          <p:cNvGrpSpPr/>
          <p:nvPr/>
        </p:nvGrpSpPr>
        <p:grpSpPr>
          <a:xfrm>
            <a:off x="214200" y="1857240"/>
            <a:ext cx="3143520" cy="1571760"/>
            <a:chOff x="214200" y="1857240"/>
            <a:chExt cx="3143520" cy="1571760"/>
          </a:xfrm>
        </p:grpSpPr>
        <mc:AlternateContent>
          <mc:Choice xmlns:a14="http://schemas.microsoft.com/office/drawing/2010/main" Requires="a14">
            <p:sp>
              <p:nvSpPr>
                <p:cNvPr id="235" name="Object 11"/>
                <p:cNvSpPr txBox="1"/>
                <p:nvPr/>
              </p:nvSpPr>
              <p:spPr>
                <a:xfrm>
                  <a:off x="372240" y="2164680"/>
                  <a:ext cx="2985480" cy="126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PSText"/>
            <p:cNvSpPr/>
            <p:nvPr/>
          </p:nvSpPr>
          <p:spPr>
            <a:xfrm>
              <a:off x="372240" y="1857240"/>
              <a:ext cx="5270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SArrow"/>
            <p:cNvSpPr/>
            <p:nvPr/>
          </p:nvSpPr>
          <p:spPr>
            <a:xfrm>
              <a:off x="214200" y="2062080"/>
              <a:ext cx="158760" cy="409680"/>
            </a:xfrm>
            <a:custGeom>
              <a:avLst/>
              <a:gdLst>
                <a:gd name="textAreaLeft" fmla="*/ 21240 w 158760"/>
                <a:gd name="textAreaRight" fmla="*/ 137520 w 158760"/>
                <a:gd name="textAreaTop" fmla="*/ 87840 h 409680"/>
                <a:gd name="textAreaBottom" fmla="*/ 30240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4" stAng="-5400000" swAng="-5400000"/>
                  <a:lnTo>
                    <a:pt x="0" y="11310"/>
                  </a:lnTo>
                  <a:arcTo wR="21600" hR="9274" stAng="10800000" swAng="-3538634"/>
                  <a:lnTo>
                    <a:pt x="16200" y="21306"/>
                  </a:lnTo>
                  <a:lnTo>
                    <a:pt x="21600" y="19565"/>
                  </a:lnTo>
                  <a:lnTo>
                    <a:pt x="16200" y="17236"/>
                  </a:lnTo>
                  <a:lnTo>
                    <a:pt x="16200" y="18253"/>
                  </a:lnTo>
                  <a:arcTo wR="21600" hR="9274" stAng="7261366" swAng="3375752"/>
                  <a:lnTo>
                    <a:pt x="131" y="10292"/>
                  </a:lnTo>
                  <a:arcTo wR="21600" hR="9274" stAng="-10637117" swAng="5237117"/>
                  <a:close/>
                </a:path>
                <a:path fill="darkenLess" w="21600" h="21600">
                  <a:moveTo>
                    <a:pt x="21600" y="0"/>
                  </a:moveTo>
                  <a:arcTo wR="21600" hR="9274" stAng="-5400000" swAng="-5400000"/>
                  <a:lnTo>
                    <a:pt x="0" y="9274"/>
                  </a:lnTo>
                  <a:arcTo wR="21600" hR="9274" stAng="10800000" swAng="-162883"/>
                  <a:lnTo>
                    <a:pt x="131" y="10292"/>
                  </a:lnTo>
                  <a:arcTo wR="21600" hR="9274" stAng="-10637117" swAng="523711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Picture Choice 2"/>
          <p:cNvGrpSpPr/>
          <p:nvPr/>
        </p:nvGrpSpPr>
        <p:grpSpPr>
          <a:xfrm>
            <a:off x="214200" y="3714840"/>
            <a:ext cx="3071880" cy="1571400"/>
            <a:chOff x="214200" y="3714840"/>
            <a:chExt cx="3071880" cy="1571400"/>
          </a:xfrm>
        </p:grpSpPr>
        <mc:AlternateContent>
          <mc:Choice xmlns:a14="http://schemas.microsoft.com/office/drawing/2010/main" Requires="a14">
            <p:sp>
              <p:nvSpPr>
                <p:cNvPr id="239" name="Object 10"/>
                <p:cNvSpPr txBox="1"/>
                <p:nvPr/>
              </p:nvSpPr>
              <p:spPr>
                <a:xfrm>
                  <a:off x="368640" y="4016160"/>
                  <a:ext cx="291744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PSText"/>
            <p:cNvSpPr/>
            <p:nvPr/>
          </p:nvSpPr>
          <p:spPr>
            <a:xfrm>
              <a:off x="368640" y="3714840"/>
              <a:ext cx="51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SArrow"/>
            <p:cNvSpPr/>
            <p:nvPr/>
          </p:nvSpPr>
          <p:spPr>
            <a:xfrm>
              <a:off x="214200" y="3916440"/>
              <a:ext cx="153720" cy="401400"/>
            </a:xfrm>
            <a:custGeom>
              <a:avLst/>
              <a:gdLst>
                <a:gd name="textAreaLeft" fmla="*/ 20520 w 153720"/>
                <a:gd name="textAreaRight" fmla="*/ 133200 w 153720"/>
                <a:gd name="textAreaTop" fmla="*/ 86040 h 401400"/>
                <a:gd name="textAreaBottom" fmla="*/ 296280 h 40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5" stAng="-5400000" swAng="-5400000"/>
                  <a:lnTo>
                    <a:pt x="0" y="11306"/>
                  </a:lnTo>
                  <a:arcTo wR="21600" hR="9285" stAng="10800000" swAng="-3540434"/>
                  <a:lnTo>
                    <a:pt x="16200" y="21305"/>
                  </a:lnTo>
                  <a:lnTo>
                    <a:pt x="21600" y="19580"/>
                  </a:lnTo>
                  <a:lnTo>
                    <a:pt x="16200" y="17264"/>
                  </a:lnTo>
                  <a:lnTo>
                    <a:pt x="16200" y="18274"/>
                  </a:lnTo>
                  <a:arcTo wR="21600" hR="9285" stAng="7259566" swAng="3378766"/>
                  <a:lnTo>
                    <a:pt x="128" y="10295"/>
                  </a:lnTo>
                  <a:arcTo wR="21600" hR="9285" stAng="-10638332" swAng="5238332"/>
                  <a:close/>
                </a:path>
                <a:path fill="darkenLess" w="21600" h="21600">
                  <a:moveTo>
                    <a:pt x="21600" y="0"/>
                  </a:moveTo>
                  <a:arcTo wR="21600" hR="9285" stAng="-5400000" swAng="-5400000"/>
                  <a:lnTo>
                    <a:pt x="0" y="9285"/>
                  </a:lnTo>
                  <a:arcTo wR="21600" hR="9285" stAng="10800000" swAng="-161668"/>
                  <a:lnTo>
                    <a:pt x="128" y="10295"/>
                  </a:lnTo>
                  <a:arcTo wR="21600" hR="9285" stAng="-10638332" swAng="5238332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Picture Choice 3"/>
          <p:cNvGrpSpPr/>
          <p:nvPr/>
        </p:nvGrpSpPr>
        <p:grpSpPr>
          <a:xfrm>
            <a:off x="3429000" y="2786040"/>
            <a:ext cx="2928960" cy="1643040"/>
            <a:chOff x="3429000" y="2786040"/>
            <a:chExt cx="2928960" cy="1643040"/>
          </a:xfrm>
        </p:grpSpPr>
        <mc:AlternateContent>
          <mc:Choice xmlns:a14="http://schemas.microsoft.com/office/drawing/2010/main" Requires="a14">
            <p:sp>
              <p:nvSpPr>
                <p:cNvPr id="243" name="Object 9"/>
                <p:cNvSpPr txBox="1"/>
                <p:nvPr/>
              </p:nvSpPr>
              <p:spPr>
                <a:xfrm>
                  <a:off x="3576240" y="3107160"/>
                  <a:ext cx="2781720" cy="132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PSText"/>
            <p:cNvSpPr/>
            <p:nvPr/>
          </p:nvSpPr>
          <p:spPr>
            <a:xfrm>
              <a:off x="3576240" y="2786040"/>
              <a:ext cx="490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SArrow"/>
            <p:cNvSpPr/>
            <p:nvPr/>
          </p:nvSpPr>
          <p:spPr>
            <a:xfrm>
              <a:off x="3429000" y="3000240"/>
              <a:ext cx="147600" cy="428400"/>
            </a:xfrm>
            <a:custGeom>
              <a:avLst/>
              <a:gdLst>
                <a:gd name="textAreaLeft" fmla="*/ 19800 w 147600"/>
                <a:gd name="textAreaRight" fmla="*/ 127800 w 147600"/>
                <a:gd name="textAreaTop" fmla="*/ 91800 h 428400"/>
                <a:gd name="textAreaBottom" fmla="*/ 31644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8" stAng="-5400000" swAng="-5400000"/>
                  <a:lnTo>
                    <a:pt x="0" y="11308"/>
                  </a:lnTo>
                  <a:arcTo wR="21600" hR="9278" stAng="10800000" swAng="-3539289"/>
                  <a:lnTo>
                    <a:pt x="16200" y="21305"/>
                  </a:lnTo>
                  <a:lnTo>
                    <a:pt x="21600" y="19570"/>
                  </a:lnTo>
                  <a:lnTo>
                    <a:pt x="16200" y="17245"/>
                  </a:lnTo>
                  <a:lnTo>
                    <a:pt x="16200" y="18260"/>
                  </a:lnTo>
                  <a:arcTo wR="21600" hR="9278" stAng="7260711" swAng="3376892"/>
                  <a:lnTo>
                    <a:pt x="130" y="10293"/>
                  </a:lnTo>
                  <a:arcTo wR="21600" hR="9278" stAng="-10637603" swAng="5237603"/>
                  <a:close/>
                </a:path>
                <a:path fill="darkenLess" w="21600" h="21600">
                  <a:moveTo>
                    <a:pt x="21600" y="0"/>
                  </a:moveTo>
                  <a:arcTo wR="21600" hR="9278" stAng="-5400000" swAng="-5400000"/>
                  <a:lnTo>
                    <a:pt x="0" y="9278"/>
                  </a:lnTo>
                  <a:arcTo wR="21600" hR="9278" stAng="10800000" swAng="-162397"/>
                  <a:lnTo>
                    <a:pt x="130" y="10293"/>
                  </a:lnTo>
                  <a:arcTo wR="21600" hR="9278" stAng="-10637603" swAng="52376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Picture Choice 4"/>
          <p:cNvGrpSpPr/>
          <p:nvPr/>
        </p:nvGrpSpPr>
        <p:grpSpPr>
          <a:xfrm>
            <a:off x="3429000" y="4500720"/>
            <a:ext cx="2928960" cy="1643040"/>
            <a:chOff x="3429000" y="4500720"/>
            <a:chExt cx="2928960" cy="1643040"/>
          </a:xfrm>
        </p:grpSpPr>
        <mc:AlternateContent>
          <mc:Choice xmlns:a14="http://schemas.microsoft.com/office/drawing/2010/main" Requires="a14">
            <p:sp>
              <p:nvSpPr>
                <p:cNvPr id="247" name="PSPic"/>
                <p:cNvSpPr txBox="1"/>
                <p:nvPr/>
              </p:nvSpPr>
              <p:spPr>
                <a:xfrm>
                  <a:off x="3577680" y="4815720"/>
                  <a:ext cx="2780280" cy="132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y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PSText"/>
            <p:cNvSpPr/>
            <p:nvPr/>
          </p:nvSpPr>
          <p:spPr>
            <a:xfrm>
              <a:off x="3577680" y="4500720"/>
              <a:ext cx="4960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SArrow"/>
            <p:cNvSpPr/>
            <p:nvPr/>
          </p:nvSpPr>
          <p:spPr>
            <a:xfrm>
              <a:off x="3429000" y="4710240"/>
              <a:ext cx="149040" cy="420480"/>
            </a:xfrm>
            <a:custGeom>
              <a:avLst/>
              <a:gdLst>
                <a:gd name="textAreaLeft" fmla="*/ 19800 w 149040"/>
                <a:gd name="textAreaRight" fmla="*/ 129240 w 149040"/>
                <a:gd name="textAreaTop" fmla="*/ 90360 h 420480"/>
                <a:gd name="textAreaBottom" fmla="*/ 31068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9" stAng="-5400000" swAng="-5400000"/>
                  <a:lnTo>
                    <a:pt x="0" y="11307"/>
                  </a:lnTo>
                  <a:arcTo wR="21600" hR="9279" stAng="10800000" swAng="-3539534"/>
                  <a:lnTo>
                    <a:pt x="16200" y="21305"/>
                  </a:lnTo>
                  <a:lnTo>
                    <a:pt x="21600" y="19572"/>
                  </a:lnTo>
                  <a:lnTo>
                    <a:pt x="16200" y="17249"/>
                  </a:lnTo>
                  <a:lnTo>
                    <a:pt x="16200" y="18263"/>
                  </a:lnTo>
                  <a:arcTo wR="21600" hR="9279" stAng="7260466" swAng="3377300"/>
                  <a:lnTo>
                    <a:pt x="129" y="10293"/>
                  </a:lnTo>
                  <a:arcTo wR="21600" hR="9279" stAng="-10637765" swAng="5237765"/>
                  <a:close/>
                </a:path>
                <a:path fill="darkenLess" w="21600" h="21600">
                  <a:moveTo>
                    <a:pt x="21600" y="0"/>
                  </a:moveTo>
                  <a:arcTo wR="21600" hR="9279" stAng="-5400000" swAng="-5400000"/>
                  <a:lnTo>
                    <a:pt x="0" y="9279"/>
                  </a:lnTo>
                  <a:arcTo wR="21600" hR="9279" stAng="10800000" swAng="-162235"/>
                  <a:lnTo>
                    <a:pt x="129" y="10293"/>
                  </a:lnTo>
                  <a:arcTo wR="21600" hR="9279" stAng="-10637765" swAng="5237765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CorShape1"/>
          <p:cNvSpPr/>
          <p:nvPr/>
        </p:nvSpPr>
        <p:spPr>
          <a:xfrm rot="10800000">
            <a:off x="857160" y="37148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uble integral is obtained when the order of integration is 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rsed          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TPChart"/>
          <p:cNvGraphicFramePr/>
          <p:nvPr/>
        </p:nvGraphicFramePr>
        <p:xfrm>
          <a:off x="5429160" y="2143080"/>
          <a:ext cx="3651480" cy="46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9160" y="2143080"/>
                    <a:ext cx="36514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3679920" y="1081080"/>
                <a:ext cx="367812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Picture Choice 1"/>
          <p:cNvGrpSpPr/>
          <p:nvPr/>
        </p:nvGrpSpPr>
        <p:grpSpPr>
          <a:xfrm>
            <a:off x="142920" y="1928880"/>
            <a:ext cx="2786040" cy="1357200"/>
            <a:chOff x="142920" y="1928880"/>
            <a:chExt cx="2786040" cy="1357200"/>
          </a:xfrm>
        </p:grpSpPr>
        <mc:AlternateContent>
          <mc:Choice xmlns:a14="http://schemas.microsoft.com/office/drawing/2010/main" Requires="a14">
            <p:sp>
              <p:nvSpPr>
                <p:cNvPr id="257" name="PSPic"/>
                <p:cNvSpPr txBox="1"/>
                <p:nvPr/>
              </p:nvSpPr>
              <p:spPr>
                <a:xfrm>
                  <a:off x="346680" y="2205000"/>
                  <a:ext cx="25822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PSText"/>
            <p:cNvSpPr/>
            <p:nvPr/>
          </p:nvSpPr>
          <p:spPr>
            <a:xfrm>
              <a:off x="270720" y="1928880"/>
              <a:ext cx="443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PSArrow"/>
            <p:cNvSpPr/>
            <p:nvPr/>
          </p:nvSpPr>
          <p:spPr>
            <a:xfrm>
              <a:off x="142920" y="2112840"/>
              <a:ext cx="128520" cy="368280"/>
            </a:xfrm>
            <a:custGeom>
              <a:avLst/>
              <a:gdLst>
                <a:gd name="textAreaLeft" fmla="*/ 16920 w 128520"/>
                <a:gd name="textAreaRight" fmla="*/ 111600 w 128520"/>
                <a:gd name="textAreaTop" fmla="*/ 78840 h 368280"/>
                <a:gd name="textAreaBottom" fmla="*/ 27180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5" stAng="-5400000" swAng="-5400000"/>
                  <a:lnTo>
                    <a:pt x="0" y="11308"/>
                  </a:lnTo>
                  <a:arcTo wR="21600" hR="9275" stAng="10800000" swAng="-3538880"/>
                  <a:lnTo>
                    <a:pt x="16200" y="21305"/>
                  </a:lnTo>
                  <a:lnTo>
                    <a:pt x="21600" y="19567"/>
                  </a:lnTo>
                  <a:lnTo>
                    <a:pt x="16200" y="17238"/>
                  </a:lnTo>
                  <a:lnTo>
                    <a:pt x="16200" y="18255"/>
                  </a:lnTo>
                  <a:arcTo wR="21600" hR="9275" stAng="7261120" swAng="3376240"/>
                  <a:lnTo>
                    <a:pt x="130" y="10292"/>
                  </a:lnTo>
                  <a:arcTo wR="21600" hR="9275" stAng="-10637360" swAng="5237360"/>
                  <a:close/>
                </a:path>
                <a:path fill="darkenLess" w="21600" h="21600">
                  <a:moveTo>
                    <a:pt x="21600" y="0"/>
                  </a:moveTo>
                  <a:arcTo wR="21600" hR="9275" stAng="-5400000" swAng="-5400000"/>
                  <a:lnTo>
                    <a:pt x="0" y="9275"/>
                  </a:lnTo>
                  <a:arcTo wR="21600" hR="9275" stAng="10800000" swAng="-162640"/>
                  <a:lnTo>
                    <a:pt x="130" y="10292"/>
                  </a:lnTo>
                  <a:arcTo wR="21600" hR="9275" stAng="-10637360" swAng="523736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Picture Choice 2"/>
          <p:cNvGrpSpPr/>
          <p:nvPr/>
        </p:nvGrpSpPr>
        <p:grpSpPr>
          <a:xfrm>
            <a:off x="2643120" y="3000240"/>
            <a:ext cx="2714760" cy="1357560"/>
            <a:chOff x="2643120" y="3000240"/>
            <a:chExt cx="2714760" cy="1357560"/>
          </a:xfrm>
        </p:grpSpPr>
        <mc:AlternateContent>
          <mc:Choice xmlns:a14="http://schemas.microsoft.com/office/drawing/2010/main" Requires="a14">
            <p:sp>
              <p:nvSpPr>
                <p:cNvPr id="261" name="Object 8"/>
                <p:cNvSpPr txBox="1"/>
                <p:nvPr/>
              </p:nvSpPr>
              <p:spPr>
                <a:xfrm>
                  <a:off x="2775240" y="3276360"/>
                  <a:ext cx="258264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PSText"/>
            <p:cNvSpPr/>
            <p:nvPr/>
          </p:nvSpPr>
          <p:spPr>
            <a:xfrm>
              <a:off x="2775240" y="3000240"/>
              <a:ext cx="440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PSArrow"/>
            <p:cNvSpPr/>
            <p:nvPr/>
          </p:nvSpPr>
          <p:spPr>
            <a:xfrm>
              <a:off x="2643120" y="3184200"/>
              <a:ext cx="131760" cy="368280"/>
            </a:xfrm>
            <a:custGeom>
              <a:avLst/>
              <a:gdLst>
                <a:gd name="textAreaLeft" fmla="*/ 17640 w 131760"/>
                <a:gd name="textAreaRight" fmla="*/ 114120 w 131760"/>
                <a:gd name="textAreaTop" fmla="*/ 79200 h 368280"/>
                <a:gd name="textAreaBottom" fmla="*/ 27216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7" stAng="-5400000" swAng="-5400000"/>
                  <a:lnTo>
                    <a:pt x="0" y="11305"/>
                  </a:lnTo>
                  <a:arcTo wR="21600" hR="9287" stAng="10800000" swAng="-3540761"/>
                  <a:lnTo>
                    <a:pt x="16200" y="21305"/>
                  </a:lnTo>
                  <a:lnTo>
                    <a:pt x="21600" y="19582"/>
                  </a:lnTo>
                  <a:lnTo>
                    <a:pt x="16200" y="17269"/>
                  </a:lnTo>
                  <a:lnTo>
                    <a:pt x="16200" y="18278"/>
                  </a:lnTo>
                  <a:arcTo wR="21600" hR="9287" stAng="7259239" swAng="3379336"/>
                  <a:lnTo>
                    <a:pt x="128" y="10296"/>
                  </a:lnTo>
                  <a:arcTo wR="21600" hR="9287" stAng="-10638575" swAng="5238575"/>
                  <a:close/>
                </a:path>
                <a:path fill="darkenLess" w="21600" h="21600">
                  <a:moveTo>
                    <a:pt x="21600" y="0"/>
                  </a:moveTo>
                  <a:arcTo wR="21600" hR="9287" stAng="-5400000" swAng="-5400000"/>
                  <a:lnTo>
                    <a:pt x="0" y="9287"/>
                  </a:lnTo>
                  <a:arcTo wR="21600" hR="9287" stAng="10800000" swAng="-161425"/>
                  <a:lnTo>
                    <a:pt x="128" y="10296"/>
                  </a:lnTo>
                  <a:arcTo wR="21600" hR="9287" stAng="-10638575" swAng="5238575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icture Choice 3"/>
          <p:cNvGrpSpPr/>
          <p:nvPr/>
        </p:nvGrpSpPr>
        <p:grpSpPr>
          <a:xfrm>
            <a:off x="214200" y="4000680"/>
            <a:ext cx="2571840" cy="1428480"/>
            <a:chOff x="214200" y="4000680"/>
            <a:chExt cx="2571840" cy="1428480"/>
          </a:xfrm>
        </p:grpSpPr>
        <mc:AlternateContent>
          <mc:Choice xmlns:a14="http://schemas.microsoft.com/office/drawing/2010/main" Requires="a14">
            <p:sp>
              <p:nvSpPr>
                <p:cNvPr id="265" name="Object 9"/>
                <p:cNvSpPr txBox="1"/>
                <p:nvPr/>
              </p:nvSpPr>
              <p:spPr>
                <a:xfrm>
                  <a:off x="339480" y="4291200"/>
                  <a:ext cx="244656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PSText"/>
            <p:cNvSpPr/>
            <p:nvPr/>
          </p:nvSpPr>
          <p:spPr>
            <a:xfrm>
              <a:off x="339480" y="4000680"/>
              <a:ext cx="446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SArrow"/>
            <p:cNvSpPr/>
            <p:nvPr/>
          </p:nvSpPr>
          <p:spPr>
            <a:xfrm>
              <a:off x="214200" y="4194360"/>
              <a:ext cx="125280" cy="387360"/>
            </a:xfrm>
            <a:custGeom>
              <a:avLst/>
              <a:gdLst>
                <a:gd name="textAreaLeft" fmla="*/ 16560 w 125280"/>
                <a:gd name="textAreaRight" fmla="*/ 108720 w 125280"/>
                <a:gd name="textAreaTop" fmla="*/ 83160 h 387360"/>
                <a:gd name="textAreaBottom" fmla="*/ 286200 h 3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9" stAng="-5400000" swAng="-5400000"/>
                  <a:lnTo>
                    <a:pt x="0" y="11308"/>
                  </a:lnTo>
                  <a:arcTo wR="21600" hR="9279" stAng="10800000" swAng="-3539453"/>
                  <a:lnTo>
                    <a:pt x="16200" y="21305"/>
                  </a:lnTo>
                  <a:lnTo>
                    <a:pt x="21600" y="19572"/>
                  </a:lnTo>
                  <a:lnTo>
                    <a:pt x="16200" y="17248"/>
                  </a:lnTo>
                  <a:lnTo>
                    <a:pt x="16200" y="18262"/>
                  </a:lnTo>
                  <a:arcTo wR="21600" hR="9279" stAng="7260547" swAng="3377137"/>
                  <a:lnTo>
                    <a:pt x="130" y="10293"/>
                  </a:lnTo>
                  <a:arcTo wR="21600" hR="9279" stAng="-10637684" swAng="5237684"/>
                  <a:close/>
                </a:path>
                <a:path fill="darkenLess" w="21600" h="21600">
                  <a:moveTo>
                    <a:pt x="21600" y="0"/>
                  </a:moveTo>
                  <a:arcTo wR="21600" hR="9279" stAng="-5400000" swAng="-5400000"/>
                  <a:lnTo>
                    <a:pt x="0" y="9279"/>
                  </a:lnTo>
                  <a:arcTo wR="21600" hR="9279" stAng="10800000" swAng="-162316"/>
                  <a:lnTo>
                    <a:pt x="130" y="10293"/>
                  </a:lnTo>
                  <a:arcTo wR="21600" hR="9279" stAng="-10637684" swAng="523768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Picture Choice 4"/>
          <p:cNvGrpSpPr/>
          <p:nvPr/>
        </p:nvGrpSpPr>
        <p:grpSpPr>
          <a:xfrm>
            <a:off x="2643120" y="5072040"/>
            <a:ext cx="2714760" cy="1357200"/>
            <a:chOff x="2643120" y="5072040"/>
            <a:chExt cx="2714760" cy="1357200"/>
          </a:xfrm>
        </p:grpSpPr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2775240" y="5348160"/>
                  <a:ext cx="25826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PSText"/>
            <p:cNvSpPr/>
            <p:nvPr/>
          </p:nvSpPr>
          <p:spPr>
            <a:xfrm>
              <a:off x="2775240" y="5072040"/>
              <a:ext cx="440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SArrow"/>
            <p:cNvSpPr/>
            <p:nvPr/>
          </p:nvSpPr>
          <p:spPr>
            <a:xfrm>
              <a:off x="2643120" y="5256000"/>
              <a:ext cx="131760" cy="368280"/>
            </a:xfrm>
            <a:custGeom>
              <a:avLst/>
              <a:gdLst>
                <a:gd name="textAreaLeft" fmla="*/ 17640 w 131760"/>
                <a:gd name="textAreaRight" fmla="*/ 114120 w 131760"/>
                <a:gd name="textAreaTop" fmla="*/ 79200 h 368280"/>
                <a:gd name="textAreaBottom" fmla="*/ 27216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7" stAng="-5400000" swAng="-5400000"/>
                  <a:lnTo>
                    <a:pt x="0" y="11305"/>
                  </a:lnTo>
                  <a:arcTo wR="21600" hR="9287" stAng="10800000" swAng="-3540761"/>
                  <a:lnTo>
                    <a:pt x="16200" y="21305"/>
                  </a:lnTo>
                  <a:lnTo>
                    <a:pt x="21600" y="19582"/>
                  </a:lnTo>
                  <a:lnTo>
                    <a:pt x="16200" y="17269"/>
                  </a:lnTo>
                  <a:lnTo>
                    <a:pt x="16200" y="18278"/>
                  </a:lnTo>
                  <a:arcTo wR="21600" hR="9287" stAng="7259239" swAng="3379336"/>
                  <a:lnTo>
                    <a:pt x="128" y="10296"/>
                  </a:lnTo>
                  <a:arcTo wR="21600" hR="9287" stAng="-10638575" swAng="5238575"/>
                  <a:close/>
                </a:path>
                <a:path fill="darkenLess" w="21600" h="21600">
                  <a:moveTo>
                    <a:pt x="21600" y="0"/>
                  </a:moveTo>
                  <a:arcTo wR="21600" hR="9287" stAng="-5400000" swAng="-5400000"/>
                  <a:lnTo>
                    <a:pt x="0" y="9287"/>
                  </a:lnTo>
                  <a:arcTo wR="21600" hR="9287" stAng="10800000" swAng="-161425"/>
                  <a:lnTo>
                    <a:pt x="128" y="10296"/>
                  </a:lnTo>
                  <a:arcTo wR="21600" hR="9287" stAng="-10638575" swAng="5238575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CorShape1"/>
          <p:cNvSpPr/>
          <p:nvPr/>
        </p:nvSpPr>
        <p:spPr>
          <a:xfrm rot="10800000">
            <a:off x="3071880" y="2928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uble integral is obtained when the order of integration is 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rsed          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TPChart"/>
          <p:cNvGraphicFramePr/>
          <p:nvPr/>
        </p:nvGraphicFramePr>
        <p:xfrm>
          <a:off x="5643720" y="2000160"/>
          <a:ext cx="343692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3720" y="2000160"/>
                    <a:ext cx="343692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784680" y="1000080"/>
                <a:ext cx="355896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Picture Choice 1"/>
          <p:cNvGrpSpPr/>
          <p:nvPr/>
        </p:nvGrpSpPr>
        <p:grpSpPr>
          <a:xfrm>
            <a:off x="285840" y="1928880"/>
            <a:ext cx="2786040" cy="1714320"/>
            <a:chOff x="285840" y="1928880"/>
            <a:chExt cx="2786040" cy="1714320"/>
          </a:xfrm>
        </p:grpSpPr>
        <mc:AlternateContent>
          <mc:Choice xmlns:a14="http://schemas.microsoft.com/office/drawing/2010/main" Requires="a14">
            <p:sp>
              <p:nvSpPr>
                <p:cNvPr id="279" name="Object 8"/>
                <p:cNvSpPr txBox="1"/>
                <p:nvPr/>
              </p:nvSpPr>
              <p:spPr>
                <a:xfrm>
                  <a:off x="428760" y="2234160"/>
                  <a:ext cx="2643120" cy="140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t xml:space="preserve">6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PSText"/>
            <p:cNvSpPr/>
            <p:nvPr/>
          </p:nvSpPr>
          <p:spPr>
            <a:xfrm>
              <a:off x="428760" y="1928880"/>
              <a:ext cx="47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PSArrow"/>
            <p:cNvSpPr/>
            <p:nvPr/>
          </p:nvSpPr>
          <p:spPr>
            <a:xfrm>
              <a:off x="285840" y="2131920"/>
              <a:ext cx="142560" cy="407880"/>
            </a:xfrm>
            <a:custGeom>
              <a:avLst/>
              <a:gdLst>
                <a:gd name="textAreaLeft" fmla="*/ 19080 w 142560"/>
                <a:gd name="textAreaRight" fmla="*/ 123480 w 142560"/>
                <a:gd name="textAreaTop" fmla="*/ 87480 h 407880"/>
                <a:gd name="textAreaBottom" fmla="*/ 30132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7" stAng="-5400000" swAng="-5400000"/>
                  <a:lnTo>
                    <a:pt x="0" y="11305"/>
                  </a:lnTo>
                  <a:arcTo wR="21600" hR="9287" stAng="10800000" swAng="-3540761"/>
                  <a:lnTo>
                    <a:pt x="16200" y="21305"/>
                  </a:lnTo>
                  <a:lnTo>
                    <a:pt x="21600" y="19582"/>
                  </a:lnTo>
                  <a:lnTo>
                    <a:pt x="16200" y="17269"/>
                  </a:lnTo>
                  <a:lnTo>
                    <a:pt x="16200" y="18278"/>
                  </a:lnTo>
                  <a:arcTo wR="21600" hR="9287" stAng="7259239" swAng="3379336"/>
                  <a:lnTo>
                    <a:pt x="128" y="10296"/>
                  </a:lnTo>
                  <a:arcTo wR="21600" hR="9287" stAng="-10638575" swAng="5238575"/>
                  <a:close/>
                </a:path>
                <a:path fill="darkenLess" w="21600" h="21600">
                  <a:moveTo>
                    <a:pt x="21600" y="0"/>
                  </a:moveTo>
                  <a:arcTo wR="21600" hR="9287" stAng="-5400000" swAng="-5400000"/>
                  <a:lnTo>
                    <a:pt x="0" y="9287"/>
                  </a:lnTo>
                  <a:arcTo wR="21600" hR="9287" stAng="10800000" swAng="-161425"/>
                  <a:lnTo>
                    <a:pt x="128" y="10296"/>
                  </a:lnTo>
                  <a:arcTo wR="21600" hR="9287" stAng="-10638575" swAng="5238575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Picture Choice 2"/>
          <p:cNvGrpSpPr/>
          <p:nvPr/>
        </p:nvGrpSpPr>
        <p:grpSpPr>
          <a:xfrm>
            <a:off x="3071880" y="2928960"/>
            <a:ext cx="2786040" cy="1643040"/>
            <a:chOff x="3071880" y="2928960"/>
            <a:chExt cx="2786040" cy="1643040"/>
          </a:xfrm>
        </p:grpSpPr>
        <mc:AlternateContent>
          <mc:Choice xmlns:a14="http://schemas.microsoft.com/office/drawing/2010/main" Requires="a14">
            <p:sp>
              <p:nvSpPr>
                <p:cNvPr id="283" name="Object 7"/>
                <p:cNvSpPr txBox="1"/>
                <p:nvPr/>
              </p:nvSpPr>
              <p:spPr>
                <a:xfrm>
                  <a:off x="3214800" y="3221640"/>
                  <a:ext cx="2643120" cy="13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y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4" name="PSText"/>
            <p:cNvSpPr/>
            <p:nvPr/>
          </p:nvSpPr>
          <p:spPr>
            <a:xfrm>
              <a:off x="3214800" y="2928960"/>
              <a:ext cx="4770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PSArrow"/>
            <p:cNvSpPr/>
            <p:nvPr/>
          </p:nvSpPr>
          <p:spPr>
            <a:xfrm>
              <a:off x="3071880" y="3124080"/>
              <a:ext cx="142560" cy="390600"/>
            </a:xfrm>
            <a:custGeom>
              <a:avLst/>
              <a:gdLst>
                <a:gd name="textAreaLeft" fmla="*/ 19080 w 142560"/>
                <a:gd name="textAreaRight" fmla="*/ 123480 w 142560"/>
                <a:gd name="textAreaTop" fmla="*/ 83880 h 390600"/>
                <a:gd name="textAreaBottom" fmla="*/ 288360 h 39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5" stAng="-5400000" swAng="-5400000"/>
                  <a:lnTo>
                    <a:pt x="0" y="11306"/>
                  </a:lnTo>
                  <a:arcTo wR="21600" hR="9285" stAng="10800000" swAng="-3540434"/>
                  <a:lnTo>
                    <a:pt x="16200" y="21305"/>
                  </a:lnTo>
                  <a:lnTo>
                    <a:pt x="21600" y="19580"/>
                  </a:lnTo>
                  <a:lnTo>
                    <a:pt x="16200" y="17264"/>
                  </a:lnTo>
                  <a:lnTo>
                    <a:pt x="16200" y="18274"/>
                  </a:lnTo>
                  <a:arcTo wR="21600" hR="9285" stAng="7259566" swAng="3378766"/>
                  <a:lnTo>
                    <a:pt x="128" y="10295"/>
                  </a:lnTo>
                  <a:arcTo wR="21600" hR="9285" stAng="-10638332" swAng="5238332"/>
                  <a:close/>
                </a:path>
                <a:path fill="darkenLess" w="21600" h="21600">
                  <a:moveTo>
                    <a:pt x="21600" y="0"/>
                  </a:moveTo>
                  <a:arcTo wR="21600" hR="9285" stAng="-5400000" swAng="-5400000"/>
                  <a:lnTo>
                    <a:pt x="0" y="9285"/>
                  </a:lnTo>
                  <a:arcTo wR="21600" hR="9285" stAng="10800000" swAng="-161668"/>
                  <a:lnTo>
                    <a:pt x="128" y="10295"/>
                  </a:lnTo>
                  <a:arcTo wR="21600" hR="9285" stAng="-10638332" swAng="5238332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Picture Choice 3"/>
          <p:cNvGrpSpPr/>
          <p:nvPr/>
        </p:nvGrpSpPr>
        <p:grpSpPr>
          <a:xfrm>
            <a:off x="214200" y="4071960"/>
            <a:ext cx="2841840" cy="1500120"/>
            <a:chOff x="214200" y="4071960"/>
            <a:chExt cx="2841840" cy="1500120"/>
          </a:xfrm>
        </p:grpSpPr>
        <mc:AlternateContent>
          <mc:Choice xmlns:a14="http://schemas.microsoft.com/office/drawing/2010/main" Requires="a14">
            <p:sp>
              <p:nvSpPr>
                <p:cNvPr id="287" name="PSPic"/>
                <p:cNvSpPr txBox="1"/>
                <p:nvPr/>
              </p:nvSpPr>
              <p:spPr>
                <a:xfrm>
                  <a:off x="365040" y="4383000"/>
                  <a:ext cx="26910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PSText"/>
            <p:cNvSpPr/>
            <p:nvPr/>
          </p:nvSpPr>
          <p:spPr>
            <a:xfrm>
              <a:off x="350280" y="4071960"/>
              <a:ext cx="454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PSArrow"/>
            <p:cNvSpPr/>
            <p:nvPr/>
          </p:nvSpPr>
          <p:spPr>
            <a:xfrm>
              <a:off x="214200" y="4279680"/>
              <a:ext cx="136440" cy="415800"/>
            </a:xfrm>
            <a:custGeom>
              <a:avLst/>
              <a:gdLst>
                <a:gd name="textAreaLeft" fmla="*/ 18000 w 136440"/>
                <a:gd name="textAreaRight" fmla="*/ 118440 w 136440"/>
                <a:gd name="textAreaTop" fmla="*/ 89280 h 415800"/>
                <a:gd name="textAreaBottom" fmla="*/ 30708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Picture Choice 4"/>
          <p:cNvGrpSpPr/>
          <p:nvPr/>
        </p:nvGrpSpPr>
        <p:grpSpPr>
          <a:xfrm>
            <a:off x="3286080" y="5000760"/>
            <a:ext cx="2643120" cy="1571400"/>
            <a:chOff x="3286080" y="5000760"/>
            <a:chExt cx="2643120" cy="1571400"/>
          </a:xfrm>
        </p:grpSpPr>
        <mc:AlternateContent>
          <mc:Choice xmlns:a14="http://schemas.microsoft.com/office/drawing/2010/main" Requires="a14">
            <p:sp>
              <p:nvSpPr>
                <p:cNvPr id="291" name="Object 6"/>
                <p:cNvSpPr txBox="1"/>
                <p:nvPr/>
              </p:nvSpPr>
              <p:spPr>
                <a:xfrm>
                  <a:off x="3421800" y="5280480"/>
                  <a:ext cx="2507400" cy="12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PSText"/>
            <p:cNvSpPr/>
            <p:nvPr/>
          </p:nvSpPr>
          <p:spPr>
            <a:xfrm>
              <a:off x="3421800" y="5000760"/>
              <a:ext cx="452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SArrow"/>
            <p:cNvSpPr/>
            <p:nvPr/>
          </p:nvSpPr>
          <p:spPr>
            <a:xfrm>
              <a:off x="3286080" y="5187960"/>
              <a:ext cx="136440" cy="372960"/>
            </a:xfrm>
            <a:custGeom>
              <a:avLst/>
              <a:gdLst>
                <a:gd name="textAreaLeft" fmla="*/ 18000 w 136440"/>
                <a:gd name="textAreaRight" fmla="*/ 118440 w 136440"/>
                <a:gd name="textAreaTop" fmla="*/ 79920 h 372960"/>
                <a:gd name="textAreaBottom" fmla="*/ 275400 h 3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2" stAng="-5400000" swAng="-5400000"/>
                  <a:lnTo>
                    <a:pt x="0" y="11309"/>
                  </a:lnTo>
                  <a:arcTo wR="21600" hR="9272" stAng="10800000" swAng="-3538389"/>
                  <a:lnTo>
                    <a:pt x="16200" y="21306"/>
                  </a:lnTo>
                  <a:lnTo>
                    <a:pt x="21600" y="19563"/>
                  </a:lnTo>
                  <a:lnTo>
                    <a:pt x="16200" y="17231"/>
                  </a:lnTo>
                  <a:lnTo>
                    <a:pt x="16200" y="18250"/>
                  </a:lnTo>
                  <a:arcTo wR="21600" hR="9272" stAng="7261611" swAng="3375425"/>
                  <a:lnTo>
                    <a:pt x="131" y="10291"/>
                  </a:lnTo>
                  <a:arcTo wR="21600" hR="9272" stAng="-10637036" swAng="5237036"/>
                  <a:close/>
                </a:path>
                <a:path fill="darkenLess" w="21600" h="21600">
                  <a:moveTo>
                    <a:pt x="21600" y="0"/>
                  </a:moveTo>
                  <a:arcTo wR="21600" hR="9272" stAng="-5400000" swAng="-5400000"/>
                  <a:lnTo>
                    <a:pt x="0" y="9272"/>
                  </a:lnTo>
                  <a:arcTo wR="21600" hR="9272" stAng="10800000" swAng="-162964"/>
                  <a:lnTo>
                    <a:pt x="131" y="10291"/>
                  </a:lnTo>
                  <a:arcTo wR="21600" hR="9272" stAng="-10637036" swAng="523703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CorShape1"/>
          <p:cNvSpPr/>
          <p:nvPr/>
        </p:nvSpPr>
        <p:spPr>
          <a:xfrm rot="10800000">
            <a:off x="3786120" y="5000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without integr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3613320" y="1116000"/>
                <a:ext cx="1917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rShape1"/>
          <p:cNvSpPr/>
          <p:nvPr/>
        </p:nvSpPr>
        <p:spPr>
          <a:xfrm rot="10800000">
            <a:off x="172800" y="28065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ntegral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equal to             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TPChart"/>
          <p:cNvGraphicFramePr/>
          <p:nvPr/>
        </p:nvGraphicFramePr>
        <p:xfrm>
          <a:off x="5572080" y="1928880"/>
          <a:ext cx="350856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928880"/>
                    <a:ext cx="350856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4167360" y="655560"/>
                <a:ext cx="369072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y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dy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Picture Choice 1"/>
          <p:cNvGrpSpPr/>
          <p:nvPr/>
        </p:nvGrpSpPr>
        <p:grpSpPr>
          <a:xfrm>
            <a:off x="95400" y="1285920"/>
            <a:ext cx="3190680" cy="1414440"/>
            <a:chOff x="95400" y="1285920"/>
            <a:chExt cx="3190680" cy="1414440"/>
          </a:xfrm>
        </p:grpSpPr>
        <mc:AlternateContent>
          <mc:Choice xmlns:a14="http://schemas.microsoft.com/office/drawing/2010/main" Requires="a14">
            <p:sp>
              <p:nvSpPr>
                <p:cNvPr id="301" name="Object 8"/>
                <p:cNvSpPr txBox="1"/>
                <p:nvPr/>
              </p:nvSpPr>
              <p:spPr>
                <a:xfrm>
                  <a:off x="270000" y="1641600"/>
                  <a:ext cx="3016080" cy="105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y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dxdy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PSText"/>
            <p:cNvSpPr/>
            <p:nvPr/>
          </p:nvSpPr>
          <p:spPr>
            <a:xfrm>
              <a:off x="270000" y="1285920"/>
              <a:ext cx="5824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PSArrow"/>
            <p:cNvSpPr/>
            <p:nvPr/>
          </p:nvSpPr>
          <p:spPr>
            <a:xfrm>
              <a:off x="95400" y="1512720"/>
              <a:ext cx="174600" cy="455400"/>
            </a:xfrm>
            <a:custGeom>
              <a:avLst/>
              <a:gdLst>
                <a:gd name="textAreaLeft" fmla="*/ 23400 w 174600"/>
                <a:gd name="textAreaRight" fmla="*/ 151200 w 174600"/>
                <a:gd name="textAreaTop" fmla="*/ 97920 h 455400"/>
                <a:gd name="textAreaBottom" fmla="*/ 3362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4" stAng="-5400000" swAng="-5400000"/>
                  <a:lnTo>
                    <a:pt x="0" y="11305"/>
                  </a:lnTo>
                  <a:arcTo wR="21600" hR="9284" stAng="10800000" swAng="-3540352"/>
                  <a:lnTo>
                    <a:pt x="16200" y="21305"/>
                  </a:lnTo>
                  <a:lnTo>
                    <a:pt x="21600" y="19579"/>
                  </a:lnTo>
                  <a:lnTo>
                    <a:pt x="16200" y="17262"/>
                  </a:lnTo>
                  <a:lnTo>
                    <a:pt x="16200" y="18273"/>
                  </a:lnTo>
                  <a:arcTo wR="21600" hR="9284" stAng="7259648" swAng="3378684"/>
                  <a:lnTo>
                    <a:pt x="128" y="10295"/>
                  </a:lnTo>
                  <a:arcTo wR="21600" hR="9284" stAng="-10638332" swAng="5238332"/>
                  <a:close/>
                </a:path>
                <a:path fill="darkenLess" w="21600" h="21600">
                  <a:moveTo>
                    <a:pt x="21600" y="0"/>
                  </a:moveTo>
                  <a:arcTo wR="21600" hR="9284" stAng="-5400000" swAng="-5400000"/>
                  <a:lnTo>
                    <a:pt x="0" y="9284"/>
                  </a:lnTo>
                  <a:arcTo wR="21600" hR="9284" stAng="10800000" swAng="-161668"/>
                  <a:lnTo>
                    <a:pt x="128" y="10295"/>
                  </a:lnTo>
                  <a:arcTo wR="21600" hR="9284" stAng="-10638332" swAng="5238332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Picture Choice 2"/>
          <p:cNvGrpSpPr/>
          <p:nvPr/>
        </p:nvGrpSpPr>
        <p:grpSpPr>
          <a:xfrm>
            <a:off x="2500200" y="2214720"/>
            <a:ext cx="3429000" cy="1603080"/>
            <a:chOff x="2500200" y="2214720"/>
            <a:chExt cx="3429000" cy="1603080"/>
          </a:xfrm>
        </p:grpSpPr>
        <mc:AlternateContent>
          <mc:Choice xmlns:a14="http://schemas.microsoft.com/office/drawing/2010/main" Requires="a14">
            <p:sp>
              <p:nvSpPr>
                <p:cNvPr id="305" name="Object 7"/>
                <p:cNvSpPr txBox="1"/>
                <p:nvPr/>
              </p:nvSpPr>
              <p:spPr>
                <a:xfrm>
                  <a:off x="2684160" y="2611440"/>
                  <a:ext cx="324504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y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dy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PSText"/>
            <p:cNvSpPr/>
            <p:nvPr/>
          </p:nvSpPr>
          <p:spPr>
            <a:xfrm>
              <a:off x="2684160" y="2214720"/>
              <a:ext cx="613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PSArrow"/>
            <p:cNvSpPr/>
            <p:nvPr/>
          </p:nvSpPr>
          <p:spPr>
            <a:xfrm>
              <a:off x="2500200" y="2468520"/>
              <a:ext cx="183960" cy="507960"/>
            </a:xfrm>
            <a:custGeom>
              <a:avLst/>
              <a:gdLst>
                <a:gd name="textAreaLeft" fmla="*/ 24480 w 183960"/>
                <a:gd name="textAreaRight" fmla="*/ 159480 w 18396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0" stAng="-5400000" swAng="-5400000"/>
                  <a:lnTo>
                    <a:pt x="0" y="11307"/>
                  </a:lnTo>
                  <a:arcTo wR="21600" hR="9280" stAng="10800000" swAng="-3539698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2"/>
                  </a:lnTo>
                  <a:lnTo>
                    <a:pt x="16200" y="18265"/>
                  </a:lnTo>
                  <a:arcTo wR="21600" hR="9280" stAng="7260302" swAng="3377544"/>
                  <a:lnTo>
                    <a:pt x="129" y="10294"/>
                  </a:lnTo>
                  <a:arcTo wR="21600" hR="9280" stAng="-10637846" swAng="5237846"/>
                  <a:close/>
                </a:path>
                <a:path fill="darkenLess" w="21600" h="21600">
                  <a:moveTo>
                    <a:pt x="21600" y="0"/>
                  </a:moveTo>
                  <a:arcTo wR="21600" hR="9280" stAng="-5400000" swAng="-5400000"/>
                  <a:lnTo>
                    <a:pt x="0" y="9280"/>
                  </a:lnTo>
                  <a:arcTo wR="21600" hR="9280" stAng="10800000" swAng="-162154"/>
                  <a:lnTo>
                    <a:pt x="129" y="10294"/>
                  </a:lnTo>
                  <a:arcTo wR="21600" hR="9280" stAng="-10637846" swAng="523784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Picture Choice 3"/>
          <p:cNvGrpSpPr/>
          <p:nvPr/>
        </p:nvGrpSpPr>
        <p:grpSpPr>
          <a:xfrm>
            <a:off x="95400" y="3000240"/>
            <a:ext cx="3619440" cy="1697040"/>
            <a:chOff x="95400" y="3000240"/>
            <a:chExt cx="3619440" cy="1697040"/>
          </a:xfrm>
        </p:grpSpPr>
        <mc:AlternateContent>
          <mc:Choice xmlns:a14="http://schemas.microsoft.com/office/drawing/2010/main" Requires="a14">
            <p:sp>
              <p:nvSpPr>
                <p:cNvPr id="309" name="Object 6"/>
                <p:cNvSpPr txBox="1"/>
                <p:nvPr/>
              </p:nvSpPr>
              <p:spPr>
                <a:xfrm>
                  <a:off x="282600" y="3408120"/>
                  <a:ext cx="3432240" cy="12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7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y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ydz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PSText"/>
            <p:cNvSpPr/>
            <p:nvPr/>
          </p:nvSpPr>
          <p:spPr>
            <a:xfrm>
              <a:off x="281880" y="3000240"/>
              <a:ext cx="6224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PSArrow"/>
            <p:cNvSpPr/>
            <p:nvPr/>
          </p:nvSpPr>
          <p:spPr>
            <a:xfrm>
              <a:off x="95400" y="3260520"/>
              <a:ext cx="187200" cy="520560"/>
            </a:xfrm>
            <a:custGeom>
              <a:avLst/>
              <a:gdLst>
                <a:gd name="textAreaLeft" fmla="*/ 24840 w 187200"/>
                <a:gd name="textAreaRight" fmla="*/ 162360 w 187200"/>
                <a:gd name="textAreaTop" fmla="*/ 111600 h 520560"/>
                <a:gd name="textAreaBottom" fmla="*/ 38448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7" stAng="-5400000" swAng="-5400000"/>
                  <a:lnTo>
                    <a:pt x="0" y="11308"/>
                  </a:lnTo>
                  <a:arcTo wR="21600" hR="9277" stAng="10800000" swAng="-3539207"/>
                  <a:lnTo>
                    <a:pt x="16200" y="21305"/>
                  </a:lnTo>
                  <a:lnTo>
                    <a:pt x="21600" y="19570"/>
                  </a:lnTo>
                  <a:lnTo>
                    <a:pt x="16200" y="17244"/>
                  </a:lnTo>
                  <a:lnTo>
                    <a:pt x="16200" y="18259"/>
                  </a:lnTo>
                  <a:arcTo wR="21600" hR="9277" stAng="7260793" swAng="3376729"/>
                  <a:lnTo>
                    <a:pt x="130" y="10293"/>
                  </a:lnTo>
                  <a:arcTo wR="21600" hR="9277" stAng="-10637522" swAng="5237522"/>
                  <a:close/>
                </a:path>
                <a:path fill="darkenLess" w="21600" h="21600">
                  <a:moveTo>
                    <a:pt x="21600" y="0"/>
                  </a:moveTo>
                  <a:arcTo wR="21600" hR="9277" stAng="-5400000" swAng="-5400000"/>
                  <a:lnTo>
                    <a:pt x="0" y="9277"/>
                  </a:lnTo>
                  <a:arcTo wR="21600" hR="9277" stAng="10800000" swAng="-162478"/>
                  <a:lnTo>
                    <a:pt x="130" y="10293"/>
                  </a:lnTo>
                  <a:arcTo wR="21600" hR="9277" stAng="-10637522" swAng="5237522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Picture Choice 4"/>
          <p:cNvGrpSpPr/>
          <p:nvPr/>
        </p:nvGrpSpPr>
        <p:grpSpPr>
          <a:xfrm>
            <a:off x="2357280" y="4214880"/>
            <a:ext cx="3571920" cy="1674720"/>
            <a:chOff x="2357280" y="4214880"/>
            <a:chExt cx="3571920" cy="1674720"/>
          </a:xfrm>
        </p:grpSpPr>
        <mc:AlternateContent>
          <mc:Choice xmlns:a14="http://schemas.microsoft.com/office/drawing/2010/main" Requires="a14">
            <p:sp>
              <p:nvSpPr>
                <p:cNvPr id="313" name="Object 5"/>
                <p:cNvSpPr txBox="1"/>
                <p:nvPr/>
              </p:nvSpPr>
              <p:spPr>
                <a:xfrm>
                  <a:off x="2549160" y="4630680"/>
                  <a:ext cx="3380040" cy="12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7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z</m:t>
                                  </m:r>
                                </m:sub>
                                <m:sup>
                                  <m:r>
                                    <m:t xml:space="preserve">7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dz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PSText"/>
            <p:cNvSpPr/>
            <p:nvPr/>
          </p:nvSpPr>
          <p:spPr>
            <a:xfrm>
              <a:off x="2548800" y="4214880"/>
              <a:ext cx="639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SArrow"/>
            <p:cNvSpPr/>
            <p:nvPr/>
          </p:nvSpPr>
          <p:spPr>
            <a:xfrm>
              <a:off x="2357280" y="4479840"/>
              <a:ext cx="191880" cy="530280"/>
            </a:xfrm>
            <a:custGeom>
              <a:avLst/>
              <a:gdLst>
                <a:gd name="textAreaLeft" fmla="*/ 25560 w 191880"/>
                <a:gd name="textAreaRight" fmla="*/ 166320 w 191880"/>
                <a:gd name="textAreaTop" fmla="*/ 113760 h 530280"/>
                <a:gd name="textAreaBottom" fmla="*/ 39168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8" stAng="-5400000" swAng="-5400000"/>
                  <a:lnTo>
                    <a:pt x="0" y="11308"/>
                  </a:lnTo>
                  <a:arcTo wR="21600" hR="9278" stAng="10800000" swAng="-3539289"/>
                  <a:lnTo>
                    <a:pt x="16200" y="21305"/>
                  </a:lnTo>
                  <a:lnTo>
                    <a:pt x="21600" y="19570"/>
                  </a:lnTo>
                  <a:lnTo>
                    <a:pt x="16200" y="17245"/>
                  </a:lnTo>
                  <a:lnTo>
                    <a:pt x="16200" y="18260"/>
                  </a:lnTo>
                  <a:arcTo wR="21600" hR="9278" stAng="7260711" swAng="3376892"/>
                  <a:lnTo>
                    <a:pt x="130" y="10293"/>
                  </a:lnTo>
                  <a:arcTo wR="21600" hR="9278" stAng="-10637603" swAng="5237603"/>
                  <a:close/>
                </a:path>
                <a:path fill="darkenLess" w="21600" h="21600">
                  <a:moveTo>
                    <a:pt x="21600" y="0"/>
                  </a:moveTo>
                  <a:arcTo wR="21600" hR="9278" stAng="-5400000" swAng="-5400000"/>
                  <a:lnTo>
                    <a:pt x="0" y="9278"/>
                  </a:lnTo>
                  <a:arcTo wR="21600" hR="9278" stAng="10800000" swAng="-162397"/>
                  <a:lnTo>
                    <a:pt x="130" y="10293"/>
                  </a:lnTo>
                  <a:arcTo wR="21600" hR="9278" stAng="-10637603" swAng="52376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Picture Choice 5"/>
          <p:cNvGrpSpPr/>
          <p:nvPr/>
        </p:nvGrpSpPr>
        <p:grpSpPr>
          <a:xfrm>
            <a:off x="71280" y="5076720"/>
            <a:ext cx="3662640" cy="1687680"/>
            <a:chOff x="71280" y="5076720"/>
            <a:chExt cx="3662640" cy="1687680"/>
          </a:xfrm>
        </p:grpSpPr>
        <mc:AlternateContent>
          <mc:Choice xmlns:a14="http://schemas.microsoft.com/office/drawing/2010/main" Requires="a14">
            <p:sp>
              <p:nvSpPr>
                <p:cNvPr id="317" name="PSPic"/>
                <p:cNvSpPr txBox="1"/>
                <p:nvPr/>
              </p:nvSpPr>
              <p:spPr>
                <a:xfrm>
                  <a:off x="259920" y="5481360"/>
                  <a:ext cx="3474000" cy="128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7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z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dz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PSText"/>
            <p:cNvSpPr/>
            <p:nvPr/>
          </p:nvSpPr>
          <p:spPr>
            <a:xfrm>
              <a:off x="260280" y="5076720"/>
              <a:ext cx="6300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PSArrow"/>
            <p:cNvSpPr/>
            <p:nvPr/>
          </p:nvSpPr>
          <p:spPr>
            <a:xfrm>
              <a:off x="71280" y="5335200"/>
              <a:ext cx="188640" cy="517320"/>
            </a:xfrm>
            <a:custGeom>
              <a:avLst/>
              <a:gdLst>
                <a:gd name="textAreaLeft" fmla="*/ 25200 w 188640"/>
                <a:gd name="textAreaRight" fmla="*/ 163440 w 188640"/>
                <a:gd name="textAreaTop" fmla="*/ 110880 h 517320"/>
                <a:gd name="textAreaBottom" fmla="*/ 38196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CorShape1"/>
          <p:cNvSpPr/>
          <p:nvPr/>
        </p:nvSpPr>
        <p:spPr>
          <a:xfrm rot="10800000">
            <a:off x="2928960" y="4286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rShape1"/>
          <p:cNvSpPr/>
          <p:nvPr/>
        </p:nvSpPr>
        <p:spPr>
          <a:xfrm rot="10800000">
            <a:off x="571320" y="12859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ntegrals 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 to        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TPChart"/>
          <p:cNvGraphicFramePr/>
          <p:nvPr/>
        </p:nvGraphicFramePr>
        <p:xfrm>
          <a:off x="5072040" y="1785960"/>
          <a:ext cx="400860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785960"/>
                    <a:ext cx="40086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4125960" y="642960"/>
                <a:ext cx="27144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Picture Choice 1"/>
          <p:cNvGrpSpPr/>
          <p:nvPr/>
        </p:nvGrpSpPr>
        <p:grpSpPr>
          <a:xfrm>
            <a:off x="279360" y="1428840"/>
            <a:ext cx="2506680" cy="1523880"/>
            <a:chOff x="279360" y="1428840"/>
            <a:chExt cx="2506680" cy="1523880"/>
          </a:xfrm>
        </p:grpSpPr>
        <mc:AlternateContent>
          <mc:Choice xmlns:a14="http://schemas.microsoft.com/office/drawing/2010/main" Requires="a14">
            <p:sp>
              <p:nvSpPr>
                <p:cNvPr id="328" name="Object 8"/>
                <p:cNvSpPr txBox="1"/>
                <p:nvPr/>
              </p:nvSpPr>
              <p:spPr>
                <a:xfrm>
                  <a:off x="469800" y="1809720"/>
                  <a:ext cx="23162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dy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PSText"/>
            <p:cNvSpPr/>
            <p:nvPr/>
          </p:nvSpPr>
          <p:spPr>
            <a:xfrm>
              <a:off x="46980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SArrow"/>
            <p:cNvSpPr/>
            <p:nvPr/>
          </p:nvSpPr>
          <p:spPr>
            <a:xfrm>
              <a:off x="27936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Picture Choice 2"/>
          <p:cNvGrpSpPr/>
          <p:nvPr/>
        </p:nvGrpSpPr>
        <p:grpSpPr>
          <a:xfrm>
            <a:off x="2952720" y="2357280"/>
            <a:ext cx="2476440" cy="1764000"/>
            <a:chOff x="2952720" y="2357280"/>
            <a:chExt cx="2476440" cy="1764000"/>
          </a:xfrm>
        </p:grpSpPr>
        <mc:AlternateContent>
          <mc:Choice xmlns:a14="http://schemas.microsoft.com/office/drawing/2010/main" Requires="a14">
            <p:sp>
              <p:nvSpPr>
                <p:cNvPr id="332" name="Object 5"/>
                <p:cNvSpPr txBox="1"/>
                <p:nvPr/>
              </p:nvSpPr>
              <p:spPr>
                <a:xfrm>
                  <a:off x="3143160" y="2738160"/>
                  <a:ext cx="2286000" cy="13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dy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PSText"/>
            <p:cNvSpPr/>
            <p:nvPr/>
          </p:nvSpPr>
          <p:spPr>
            <a:xfrm>
              <a:off x="3143160" y="2357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PSArrow"/>
            <p:cNvSpPr/>
            <p:nvPr/>
          </p:nvSpPr>
          <p:spPr>
            <a:xfrm>
              <a:off x="2952720" y="2611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Picture Choice 3"/>
          <p:cNvGrpSpPr/>
          <p:nvPr/>
        </p:nvGrpSpPr>
        <p:grpSpPr>
          <a:xfrm>
            <a:off x="309600" y="3236760"/>
            <a:ext cx="2476440" cy="1764000"/>
            <a:chOff x="309600" y="3236760"/>
            <a:chExt cx="2476440" cy="1764000"/>
          </a:xfrm>
        </p:grpSpPr>
        <mc:AlternateContent>
          <mc:Choice xmlns:a14="http://schemas.microsoft.com/office/drawing/2010/main" Requires="a14">
            <p:sp>
              <p:nvSpPr>
                <p:cNvPr id="336" name="PSPic"/>
                <p:cNvSpPr txBox="1"/>
                <p:nvPr/>
              </p:nvSpPr>
              <p:spPr>
                <a:xfrm>
                  <a:off x="500040" y="3617640"/>
                  <a:ext cx="2286000" cy="13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dy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7" name="PSText"/>
            <p:cNvSpPr/>
            <p:nvPr/>
          </p:nvSpPr>
          <p:spPr>
            <a:xfrm>
              <a:off x="500040" y="3236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PSArrow"/>
            <p:cNvSpPr/>
            <p:nvPr/>
          </p:nvSpPr>
          <p:spPr>
            <a:xfrm>
              <a:off x="309600" y="3490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Picture Choice 4"/>
          <p:cNvGrpSpPr/>
          <p:nvPr/>
        </p:nvGrpSpPr>
        <p:grpSpPr>
          <a:xfrm>
            <a:off x="2928960" y="4379760"/>
            <a:ext cx="2476440" cy="1764000"/>
            <a:chOff x="2928960" y="4379760"/>
            <a:chExt cx="2476440" cy="1764000"/>
          </a:xfrm>
        </p:grpSpPr>
        <mc:AlternateContent>
          <mc:Choice xmlns:a14="http://schemas.microsoft.com/office/drawing/2010/main" Requires="a14">
            <p:sp>
              <p:nvSpPr>
                <p:cNvPr id="340" name="Object 6"/>
                <p:cNvSpPr txBox="1"/>
                <p:nvPr/>
              </p:nvSpPr>
              <p:spPr>
                <a:xfrm>
                  <a:off x="3119400" y="4760640"/>
                  <a:ext cx="2286000" cy="13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dy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41" name="PSText"/>
            <p:cNvSpPr/>
            <p:nvPr/>
          </p:nvSpPr>
          <p:spPr>
            <a:xfrm>
              <a:off x="3119400" y="4379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PSArrow"/>
            <p:cNvSpPr/>
            <p:nvPr/>
          </p:nvSpPr>
          <p:spPr>
            <a:xfrm>
              <a:off x="2928960" y="4633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Picture Choice 5"/>
          <p:cNvGrpSpPr/>
          <p:nvPr/>
        </p:nvGrpSpPr>
        <p:grpSpPr>
          <a:xfrm>
            <a:off x="357120" y="5262480"/>
            <a:ext cx="2476440" cy="1524240"/>
            <a:chOff x="357120" y="5262480"/>
            <a:chExt cx="2476440" cy="1524240"/>
          </a:xfrm>
        </p:grpSpPr>
        <mc:AlternateContent>
          <mc:Choice xmlns:a14="http://schemas.microsoft.com/office/drawing/2010/main" Requires="a14">
            <p:sp>
              <p:nvSpPr>
                <p:cNvPr id="344" name="Object 7"/>
                <p:cNvSpPr txBox="1"/>
                <p:nvPr/>
              </p:nvSpPr>
              <p:spPr>
                <a:xfrm>
                  <a:off x="547560" y="5643360"/>
                  <a:ext cx="2286000" cy="114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ydx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PSText"/>
            <p:cNvSpPr/>
            <p:nvPr/>
          </p:nvSpPr>
          <p:spPr>
            <a:xfrm>
              <a:off x="547560" y="5262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SArrow"/>
            <p:cNvSpPr/>
            <p:nvPr/>
          </p:nvSpPr>
          <p:spPr>
            <a:xfrm>
              <a:off x="357120" y="55162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CorShape1"/>
          <p:cNvSpPr/>
          <p:nvPr/>
        </p:nvSpPr>
        <p:spPr>
          <a:xfrm rot="10800000">
            <a:off x="3500280" y="2357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dose not describes the graph of the equation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rShape1"/>
          <p:cNvSpPr/>
          <p:nvPr/>
        </p:nvSpPr>
        <p:spPr>
          <a:xfrm rot="10800000">
            <a:off x="223560" y="235728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rShape2"/>
          <p:cNvSpPr/>
          <p:nvPr/>
        </p:nvSpPr>
        <p:spPr>
          <a:xfrm rot="10800000">
            <a:off x="223560" y="35254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 the integral to polar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s           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TPChart"/>
          <p:cNvGraphicFramePr/>
          <p:nvPr/>
        </p:nvGraphicFramePr>
        <p:xfrm>
          <a:off x="5286240" y="1928880"/>
          <a:ext cx="379440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1928880"/>
                    <a:ext cx="37944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929120" y="571680"/>
                <a:ext cx="19782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a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Picture Choice 1"/>
          <p:cNvGrpSpPr/>
          <p:nvPr/>
        </p:nvGrpSpPr>
        <p:grpSpPr>
          <a:xfrm>
            <a:off x="285840" y="1714680"/>
            <a:ext cx="2307960" cy="1365120"/>
            <a:chOff x="285840" y="1714680"/>
            <a:chExt cx="2307960" cy="1365120"/>
          </a:xfrm>
        </p:grpSpPr>
        <mc:AlternateContent>
          <mc:Choice xmlns:a14="http://schemas.microsoft.com/office/drawing/2010/main" Requires="a14">
            <p:sp>
              <p:nvSpPr>
                <p:cNvPr id="360" name="Object 7"/>
                <p:cNvSpPr txBox="1"/>
                <p:nvPr/>
              </p:nvSpPr>
              <p:spPr>
                <a:xfrm>
                  <a:off x="487440" y="2189160"/>
                  <a:ext cx="2106360" cy="8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PSText"/>
            <p:cNvSpPr/>
            <p:nvPr/>
          </p:nvSpPr>
          <p:spPr>
            <a:xfrm>
              <a:off x="476280" y="17146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PSArrow"/>
            <p:cNvSpPr/>
            <p:nvPr/>
          </p:nvSpPr>
          <p:spPr>
            <a:xfrm>
              <a:off x="28584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Picture Choice 2"/>
          <p:cNvGrpSpPr/>
          <p:nvPr/>
        </p:nvGrpSpPr>
        <p:grpSpPr>
          <a:xfrm>
            <a:off x="2558880" y="2827440"/>
            <a:ext cx="2298960" cy="1458720"/>
            <a:chOff x="2558880" y="2827440"/>
            <a:chExt cx="2298960" cy="1458720"/>
          </a:xfrm>
        </p:grpSpPr>
        <mc:AlternateContent>
          <mc:Choice xmlns:a14="http://schemas.microsoft.com/office/drawing/2010/main" Requires="a14">
            <p:sp>
              <p:nvSpPr>
                <p:cNvPr id="364" name="Object 6"/>
                <p:cNvSpPr txBox="1"/>
                <p:nvPr/>
              </p:nvSpPr>
              <p:spPr>
                <a:xfrm>
                  <a:off x="2750760" y="3208320"/>
                  <a:ext cx="2107080" cy="107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dθ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PSText"/>
            <p:cNvSpPr/>
            <p:nvPr/>
          </p:nvSpPr>
          <p:spPr>
            <a:xfrm>
              <a:off x="2749320" y="28274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PSArrow"/>
            <p:cNvSpPr/>
            <p:nvPr/>
          </p:nvSpPr>
          <p:spPr>
            <a:xfrm>
              <a:off x="2558880" y="3081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Picture Choice 3"/>
          <p:cNvGrpSpPr/>
          <p:nvPr/>
        </p:nvGrpSpPr>
        <p:grpSpPr>
          <a:xfrm>
            <a:off x="272880" y="3929040"/>
            <a:ext cx="2298960" cy="1459080"/>
            <a:chOff x="272880" y="3929040"/>
            <a:chExt cx="2298960" cy="1459080"/>
          </a:xfrm>
        </p:grpSpPr>
        <mc:AlternateContent>
          <mc:Choice xmlns:a14="http://schemas.microsoft.com/office/drawing/2010/main" Requires="a14">
            <p:sp>
              <p:nvSpPr>
                <p:cNvPr id="368" name="PSPic"/>
                <p:cNvSpPr txBox="1"/>
                <p:nvPr/>
              </p:nvSpPr>
              <p:spPr>
                <a:xfrm>
                  <a:off x="463320" y="4309920"/>
                  <a:ext cx="2108520" cy="107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PSText"/>
            <p:cNvSpPr/>
            <p:nvPr/>
          </p:nvSpPr>
          <p:spPr>
            <a:xfrm>
              <a:off x="463320" y="3929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PSArrow"/>
            <p:cNvSpPr/>
            <p:nvPr/>
          </p:nvSpPr>
          <p:spPr>
            <a:xfrm>
              <a:off x="27288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Picture Choice 4"/>
          <p:cNvGrpSpPr/>
          <p:nvPr/>
        </p:nvGrpSpPr>
        <p:grpSpPr>
          <a:xfrm>
            <a:off x="2500200" y="5143680"/>
            <a:ext cx="2311560" cy="1365120"/>
            <a:chOff x="2500200" y="5143680"/>
            <a:chExt cx="2311560" cy="1365120"/>
          </a:xfrm>
        </p:grpSpPr>
        <mc:AlternateContent>
          <mc:Choice xmlns:a14="http://schemas.microsoft.com/office/drawing/2010/main" Requires="a14">
            <p:sp>
              <p:nvSpPr>
                <p:cNvPr id="372" name="Object 5"/>
                <p:cNvSpPr txBox="1"/>
                <p:nvPr/>
              </p:nvSpPr>
              <p:spPr>
                <a:xfrm>
                  <a:off x="2679480" y="5618160"/>
                  <a:ext cx="2132280" cy="8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PSText"/>
            <p:cNvSpPr/>
            <p:nvPr/>
          </p:nvSpPr>
          <p:spPr>
            <a:xfrm>
              <a:off x="269064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PSArrow"/>
            <p:cNvSpPr/>
            <p:nvPr/>
          </p:nvSpPr>
          <p:spPr>
            <a:xfrm>
              <a:off x="250020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CorShape1"/>
          <p:cNvSpPr/>
          <p:nvPr/>
        </p:nvSpPr>
        <p:spPr>
          <a:xfrm rot="10800000">
            <a:off x="857160" y="4071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rt the integral to polar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s           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TPChart"/>
          <p:cNvGraphicFramePr/>
          <p:nvPr/>
        </p:nvGraphicFramePr>
        <p:xfrm>
          <a:off x="4929120" y="1882800"/>
          <a:ext cx="4151520" cy="49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882800"/>
                    <a:ext cx="415152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959360" y="660240"/>
                <a:ext cx="191628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sup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Picture Choice 1"/>
          <p:cNvGrpSpPr/>
          <p:nvPr/>
        </p:nvGrpSpPr>
        <p:grpSpPr>
          <a:xfrm>
            <a:off x="266760" y="1612800"/>
            <a:ext cx="2376360" cy="1495440"/>
            <a:chOff x="266760" y="1612800"/>
            <a:chExt cx="2376360" cy="1495440"/>
          </a:xfrm>
        </p:grpSpPr>
        <mc:AlternateContent>
          <mc:Choice xmlns:a14="http://schemas.microsoft.com/office/drawing/2010/main" Requires="a14">
            <p:sp>
              <p:nvSpPr>
                <p:cNvPr id="382" name="Object 7"/>
                <p:cNvSpPr txBox="1"/>
                <p:nvPr/>
              </p:nvSpPr>
              <p:spPr>
                <a:xfrm>
                  <a:off x="439560" y="2100240"/>
                  <a:ext cx="22035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PSText"/>
            <p:cNvSpPr/>
            <p:nvPr/>
          </p:nvSpPr>
          <p:spPr>
            <a:xfrm>
              <a:off x="457200" y="1612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PSArrow"/>
            <p:cNvSpPr/>
            <p:nvPr/>
          </p:nvSpPr>
          <p:spPr>
            <a:xfrm>
              <a:off x="266760" y="1866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Picture Choice 2"/>
          <p:cNvGrpSpPr/>
          <p:nvPr/>
        </p:nvGrpSpPr>
        <p:grpSpPr>
          <a:xfrm>
            <a:off x="2759040" y="2755800"/>
            <a:ext cx="1584360" cy="1495440"/>
            <a:chOff x="2759040" y="2755800"/>
            <a:chExt cx="1584360" cy="1495440"/>
          </a:xfrm>
        </p:grpSpPr>
        <mc:AlternateContent>
          <mc:Choice xmlns:a14="http://schemas.microsoft.com/office/drawing/2010/main" Requires="a14">
            <p:sp>
              <p:nvSpPr>
                <p:cNvPr id="386" name="Object 6"/>
                <p:cNvSpPr txBox="1"/>
                <p:nvPr/>
              </p:nvSpPr>
              <p:spPr>
                <a:xfrm>
                  <a:off x="2962080" y="3241440"/>
                  <a:ext cx="138132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PSText"/>
            <p:cNvSpPr/>
            <p:nvPr/>
          </p:nvSpPr>
          <p:spPr>
            <a:xfrm>
              <a:off x="2949480" y="2755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PSArrow"/>
            <p:cNvSpPr/>
            <p:nvPr/>
          </p:nvSpPr>
          <p:spPr>
            <a:xfrm>
              <a:off x="2759040" y="3009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Picture Choice 3"/>
          <p:cNvGrpSpPr/>
          <p:nvPr/>
        </p:nvGrpSpPr>
        <p:grpSpPr>
          <a:xfrm>
            <a:off x="264960" y="3755880"/>
            <a:ext cx="2262240" cy="1495440"/>
            <a:chOff x="264960" y="3755880"/>
            <a:chExt cx="2262240" cy="1495440"/>
          </a:xfrm>
        </p:grpSpPr>
        <mc:AlternateContent>
          <mc:Choice xmlns:a14="http://schemas.microsoft.com/office/drawing/2010/main" Requires="a14">
            <p:sp>
              <p:nvSpPr>
                <p:cNvPr id="390" name="Object 5"/>
                <p:cNvSpPr txBox="1"/>
                <p:nvPr/>
              </p:nvSpPr>
              <p:spPr>
                <a:xfrm>
                  <a:off x="428400" y="4243320"/>
                  <a:ext cx="209880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PSText"/>
            <p:cNvSpPr/>
            <p:nvPr/>
          </p:nvSpPr>
          <p:spPr>
            <a:xfrm>
              <a:off x="455400" y="3755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PSArrow"/>
            <p:cNvSpPr/>
            <p:nvPr/>
          </p:nvSpPr>
          <p:spPr>
            <a:xfrm>
              <a:off x="264960" y="4009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Picture Choice 4"/>
          <p:cNvGrpSpPr/>
          <p:nvPr/>
        </p:nvGrpSpPr>
        <p:grpSpPr>
          <a:xfrm>
            <a:off x="2678040" y="5000760"/>
            <a:ext cx="2394000" cy="1601640"/>
            <a:chOff x="2678040" y="5000760"/>
            <a:chExt cx="2394000" cy="1601640"/>
          </a:xfrm>
        </p:grpSpPr>
        <mc:AlternateContent>
          <mc:Choice xmlns:a14="http://schemas.microsoft.com/office/drawing/2010/main" Requires="a14">
            <p:sp>
              <p:nvSpPr>
                <p:cNvPr id="394" name="PSPic"/>
                <p:cNvSpPr txBox="1"/>
                <p:nvPr/>
              </p:nvSpPr>
              <p:spPr>
                <a:xfrm>
                  <a:off x="2868480" y="5381640"/>
                  <a:ext cx="220356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PSText"/>
            <p:cNvSpPr/>
            <p:nvPr/>
          </p:nvSpPr>
          <p:spPr>
            <a:xfrm>
              <a:off x="286848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PSArrow"/>
            <p:cNvSpPr/>
            <p:nvPr/>
          </p:nvSpPr>
          <p:spPr>
            <a:xfrm>
              <a:off x="267804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7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6"/>
                  </a:lnTo>
                  <a:lnTo>
                    <a:pt x="16200" y="18268"/>
                  </a:lnTo>
                  <a:arcTo wR="21600" hR="9282" stAng="7260057" swAng="3377952"/>
                  <a:lnTo>
                    <a:pt x="129" y="10294"/>
                  </a:lnTo>
                  <a:arcTo wR="21600" hR="9282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92"/>
                  <a:lnTo>
                    <a:pt x="129" y="10294"/>
                  </a:lnTo>
                  <a:arcTo wR="21600" hR="9282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CorShape1"/>
          <p:cNvSpPr/>
          <p:nvPr/>
        </p:nvSpPr>
        <p:spPr>
          <a:xfrm rot="10800000">
            <a:off x="3286080" y="5072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 the function                      over the part of the quadra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in polar coordina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TPChart"/>
          <p:cNvGraphicFramePr/>
          <p:nvPr/>
        </p:nvGraphicFramePr>
        <p:xfrm>
          <a:off x="4857840" y="1857240"/>
          <a:ext cx="4222800" cy="49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857240"/>
                    <a:ext cx="4222800" cy="49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4997520" y="71280"/>
                <a:ext cx="3003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249120" y="1214280"/>
                <a:ext cx="39657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Picture Choice 1"/>
          <p:cNvGrpSpPr/>
          <p:nvPr/>
        </p:nvGrpSpPr>
        <p:grpSpPr>
          <a:xfrm>
            <a:off x="214200" y="1827360"/>
            <a:ext cx="2233800" cy="1601640"/>
            <a:chOff x="214200" y="1827360"/>
            <a:chExt cx="2233800" cy="1601640"/>
          </a:xfrm>
        </p:grpSpPr>
        <mc:AlternateContent>
          <mc:Choice xmlns:a14="http://schemas.microsoft.com/office/drawing/2010/main" Requires="a14">
            <p:sp>
              <p:nvSpPr>
                <p:cNvPr id="405" name="Object 5"/>
                <p:cNvSpPr txBox="1"/>
                <p:nvPr/>
              </p:nvSpPr>
              <p:spPr>
                <a:xfrm>
                  <a:off x="404640" y="2208240"/>
                  <a:ext cx="204336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06" name="PSText"/>
            <p:cNvSpPr/>
            <p:nvPr/>
          </p:nvSpPr>
          <p:spPr>
            <a:xfrm>
              <a:off x="404640" y="1827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SArrow"/>
            <p:cNvSpPr/>
            <p:nvPr/>
          </p:nvSpPr>
          <p:spPr>
            <a:xfrm>
              <a:off x="214200" y="2081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Picture Choice 2"/>
          <p:cNvGrpSpPr/>
          <p:nvPr/>
        </p:nvGrpSpPr>
        <p:grpSpPr>
          <a:xfrm>
            <a:off x="2357280" y="3112920"/>
            <a:ext cx="2233800" cy="1602000"/>
            <a:chOff x="2357280" y="3112920"/>
            <a:chExt cx="2233800" cy="1602000"/>
          </a:xfrm>
        </p:grpSpPr>
        <mc:AlternateContent>
          <mc:Choice xmlns:a14="http://schemas.microsoft.com/office/drawing/2010/main" Requires="a14">
            <p:sp>
              <p:nvSpPr>
                <p:cNvPr id="409" name="PSPic"/>
                <p:cNvSpPr txBox="1"/>
                <p:nvPr/>
              </p:nvSpPr>
              <p:spPr>
                <a:xfrm>
                  <a:off x="2547720" y="3493800"/>
                  <a:ext cx="2043360" cy="122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0" name="PSText"/>
            <p:cNvSpPr/>
            <p:nvPr/>
          </p:nvSpPr>
          <p:spPr>
            <a:xfrm>
              <a:off x="2547720" y="3112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PSArrow"/>
            <p:cNvSpPr/>
            <p:nvPr/>
          </p:nvSpPr>
          <p:spPr>
            <a:xfrm>
              <a:off x="2357280" y="3366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Picture Choice 3"/>
          <p:cNvGrpSpPr/>
          <p:nvPr/>
        </p:nvGrpSpPr>
        <p:grpSpPr>
          <a:xfrm>
            <a:off x="214200" y="4286160"/>
            <a:ext cx="2233800" cy="1390680"/>
            <a:chOff x="214200" y="4286160"/>
            <a:chExt cx="2233800" cy="1390680"/>
          </a:xfrm>
        </p:grpSpPr>
        <mc:AlternateContent>
          <mc:Choice xmlns:a14="http://schemas.microsoft.com/office/drawing/2010/main" Requires="a14">
            <p:sp>
              <p:nvSpPr>
                <p:cNvPr id="413" name="Object 8"/>
                <p:cNvSpPr txBox="1"/>
                <p:nvPr/>
              </p:nvSpPr>
              <p:spPr>
                <a:xfrm>
                  <a:off x="404640" y="4667040"/>
                  <a:ext cx="204336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4" name="PSText"/>
            <p:cNvSpPr/>
            <p:nvPr/>
          </p:nvSpPr>
          <p:spPr>
            <a:xfrm>
              <a:off x="40464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PSArrow"/>
            <p:cNvSpPr/>
            <p:nvPr/>
          </p:nvSpPr>
          <p:spPr>
            <a:xfrm>
              <a:off x="21420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Picture Choice 4"/>
          <p:cNvGrpSpPr/>
          <p:nvPr/>
        </p:nvGrpSpPr>
        <p:grpSpPr>
          <a:xfrm>
            <a:off x="2338560" y="5429160"/>
            <a:ext cx="2233440" cy="1390680"/>
            <a:chOff x="2338560" y="5429160"/>
            <a:chExt cx="2233440" cy="1390680"/>
          </a:xfrm>
        </p:grpSpPr>
        <mc:AlternateContent>
          <mc:Choice xmlns:a14="http://schemas.microsoft.com/office/drawing/2010/main" Requires="a14">
            <p:sp>
              <p:nvSpPr>
                <p:cNvPr id="417" name="Object 7"/>
                <p:cNvSpPr txBox="1"/>
                <p:nvPr/>
              </p:nvSpPr>
              <p:spPr>
                <a:xfrm>
                  <a:off x="2529000" y="5810040"/>
                  <a:ext cx="204300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π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d</m:t>
                              </m:r>
                              <m:r>
                                <m:t xml:space="preserve">θ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PSText"/>
            <p:cNvSpPr/>
            <p:nvPr/>
          </p:nvSpPr>
          <p:spPr>
            <a:xfrm>
              <a:off x="252900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PSArrow"/>
            <p:cNvSpPr/>
            <p:nvPr/>
          </p:nvSpPr>
          <p:spPr>
            <a:xfrm>
              <a:off x="233856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CorShape1"/>
          <p:cNvSpPr/>
          <p:nvPr/>
        </p:nvSpPr>
        <p:spPr>
          <a:xfrm rot="10800000">
            <a:off x="857160" y="1928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ntegrals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equivalent to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TPChart"/>
          <p:cNvGraphicFramePr/>
          <p:nvPr/>
        </p:nvGraphicFramePr>
        <p:xfrm>
          <a:off x="4508640" y="2000160"/>
          <a:ext cx="45720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0160"/>
                    <a:ext cx="4572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460840" y="654120"/>
                <a:ext cx="1716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26" name="Picture Choice 1"/>
          <p:cNvGrpSpPr/>
          <p:nvPr/>
        </p:nvGrpSpPr>
        <p:grpSpPr>
          <a:xfrm>
            <a:off x="285840" y="1571760"/>
            <a:ext cx="1698480" cy="1563480"/>
            <a:chOff x="285840" y="1571760"/>
            <a:chExt cx="1698480" cy="1563480"/>
          </a:xfrm>
        </p:grpSpPr>
        <mc:AlternateContent>
          <mc:Choice xmlns:a14="http://schemas.microsoft.com/office/drawing/2010/main" Requires="a14">
            <p:sp>
              <p:nvSpPr>
                <p:cNvPr id="427" name="Object 6"/>
                <p:cNvSpPr txBox="1"/>
                <p:nvPr/>
              </p:nvSpPr>
              <p:spPr>
                <a:xfrm>
                  <a:off x="476280" y="1952640"/>
                  <a:ext cx="1508040" cy="11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b>
                            <m:sup>
                              <m:r>
                                <m:t xml:space="preserve">0</m:t>
                              </m:r>
                            </m: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dx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PSText"/>
            <p:cNvSpPr/>
            <p:nvPr/>
          </p:nvSpPr>
          <p:spPr>
            <a:xfrm>
              <a:off x="47628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PSArrow"/>
            <p:cNvSpPr/>
            <p:nvPr/>
          </p:nvSpPr>
          <p:spPr>
            <a:xfrm>
              <a:off x="28584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Picture Choice 2"/>
          <p:cNvGrpSpPr/>
          <p:nvPr/>
        </p:nvGrpSpPr>
        <p:grpSpPr>
          <a:xfrm>
            <a:off x="2286000" y="2620800"/>
            <a:ext cx="1652760" cy="1594080"/>
            <a:chOff x="2286000" y="2620800"/>
            <a:chExt cx="1652760" cy="1594080"/>
          </a:xfrm>
        </p:grpSpPr>
        <mc:AlternateContent>
          <mc:Choice xmlns:a14="http://schemas.microsoft.com/office/drawing/2010/main" Requires="a14">
            <p:sp>
              <p:nvSpPr>
                <p:cNvPr id="431" name="PSPic"/>
                <p:cNvSpPr txBox="1"/>
                <p:nvPr/>
              </p:nvSpPr>
              <p:spPr>
                <a:xfrm>
                  <a:off x="2490840" y="3001680"/>
                  <a:ext cx="1447920" cy="121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dx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32" name="PSText"/>
            <p:cNvSpPr/>
            <p:nvPr/>
          </p:nvSpPr>
          <p:spPr>
            <a:xfrm>
              <a:off x="2476440" y="262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PSArrow"/>
            <p:cNvSpPr/>
            <p:nvPr/>
          </p:nvSpPr>
          <p:spPr>
            <a:xfrm>
              <a:off x="2286000" y="287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Picture Choice 3"/>
          <p:cNvGrpSpPr/>
          <p:nvPr/>
        </p:nvGrpSpPr>
        <p:grpSpPr>
          <a:xfrm>
            <a:off x="357120" y="3786120"/>
            <a:ext cx="1668600" cy="1609920"/>
            <a:chOff x="357120" y="3786120"/>
            <a:chExt cx="1668600" cy="1609920"/>
          </a:xfrm>
        </p:grpSpPr>
        <mc:AlternateContent>
          <mc:Choice xmlns:a14="http://schemas.microsoft.com/office/drawing/2010/main" Requires="a14">
            <p:sp>
              <p:nvSpPr>
                <p:cNvPr id="435" name="Object 5"/>
                <p:cNvSpPr txBox="1"/>
                <p:nvPr/>
              </p:nvSpPr>
              <p:spPr>
                <a:xfrm>
                  <a:off x="547560" y="4152600"/>
                  <a:ext cx="1478160" cy="124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dy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PSText"/>
            <p:cNvSpPr/>
            <p:nvPr/>
          </p:nvSpPr>
          <p:spPr>
            <a:xfrm>
              <a:off x="5475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PSArrow"/>
            <p:cNvSpPr/>
            <p:nvPr/>
          </p:nvSpPr>
          <p:spPr>
            <a:xfrm>
              <a:off x="3571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Picture Choice 4"/>
          <p:cNvGrpSpPr/>
          <p:nvPr/>
        </p:nvGrpSpPr>
        <p:grpSpPr>
          <a:xfrm>
            <a:off x="2357280" y="4776840"/>
            <a:ext cx="1683000" cy="1638360"/>
            <a:chOff x="2357280" y="4776840"/>
            <a:chExt cx="1683000" cy="1638360"/>
          </a:xfrm>
        </p:grpSpPr>
        <mc:AlternateContent>
          <mc:Choice xmlns:a14="http://schemas.microsoft.com/office/drawing/2010/main" Requires="a14">
            <p:sp>
              <p:nvSpPr>
                <p:cNvPr id="439" name="Object 7"/>
                <p:cNvSpPr txBox="1"/>
                <p:nvPr/>
              </p:nvSpPr>
              <p:spPr>
                <a:xfrm>
                  <a:off x="2590560" y="5172120"/>
                  <a:ext cx="1449720" cy="12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dy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40" name="PSText"/>
            <p:cNvSpPr/>
            <p:nvPr/>
          </p:nvSpPr>
          <p:spPr>
            <a:xfrm>
              <a:off x="2547720" y="4776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PSArrow"/>
            <p:cNvSpPr/>
            <p:nvPr/>
          </p:nvSpPr>
          <p:spPr>
            <a:xfrm>
              <a:off x="2357280" y="5030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CorShape1"/>
          <p:cNvSpPr/>
          <p:nvPr/>
        </p:nvSpPr>
        <p:spPr>
          <a:xfrm rot="10800000">
            <a:off x="2928960" y="4786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the integral 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5551560" y="142920"/>
                <a:ext cx="316368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632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be done algebra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orShape1"/>
          <p:cNvSpPr/>
          <p:nvPr/>
        </p:nvSpPr>
        <p:spPr>
          <a:xfrm rot="10800000">
            <a:off x="172800" y="21636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e the volume under the surface given by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f(x, y)=2xsin(y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 the region bounded above by the curv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below by the lin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≤x≤1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TPChart"/>
          <p:cNvGraphicFramePr/>
          <p:nvPr/>
        </p:nvGraphicFramePr>
        <p:xfrm>
          <a:off x="4781520" y="2286000"/>
          <a:ext cx="429912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1520" y="2286000"/>
                    <a:ext cx="42991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orShape1"/>
          <p:cNvSpPr/>
          <p:nvPr/>
        </p:nvSpPr>
        <p:spPr>
          <a:xfrm rot="10800000">
            <a:off x="172800" y="46656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e f(x, y)=x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y over the quadrilateral with vertices at (0, 0),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, 0), (2, 2) and (0,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Picture Choice 1"/>
          <p:cNvGrpSpPr/>
          <p:nvPr/>
        </p:nvGrpSpPr>
        <p:grpSpPr>
          <a:xfrm>
            <a:off x="500040" y="1785960"/>
            <a:ext cx="831960" cy="1554120"/>
            <a:chOff x="500040" y="1785960"/>
            <a:chExt cx="831960" cy="1554120"/>
          </a:xfrm>
        </p:grpSpPr>
        <mc:AlternateContent>
          <mc:Choice xmlns:a14="http://schemas.microsoft.com/office/drawing/2010/main" Requires="a14">
            <p:sp>
              <p:nvSpPr>
                <p:cNvPr id="460" name="Object 6"/>
                <p:cNvSpPr txBox="1"/>
                <p:nvPr/>
              </p:nvSpPr>
              <p:spPr>
                <a:xfrm>
                  <a:off x="690480" y="2166840"/>
                  <a:ext cx="64152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PSText"/>
            <p:cNvSpPr/>
            <p:nvPr/>
          </p:nvSpPr>
          <p:spPr>
            <a:xfrm>
              <a:off x="69048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PSArrow"/>
            <p:cNvSpPr/>
            <p:nvPr/>
          </p:nvSpPr>
          <p:spPr>
            <a:xfrm>
              <a:off x="50004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Picture Choice 2"/>
          <p:cNvGrpSpPr/>
          <p:nvPr/>
        </p:nvGrpSpPr>
        <p:grpSpPr>
          <a:xfrm>
            <a:off x="2200320" y="2803680"/>
            <a:ext cx="871560" cy="1554120"/>
            <a:chOff x="2200320" y="2803680"/>
            <a:chExt cx="871560" cy="1554120"/>
          </a:xfrm>
        </p:grpSpPr>
        <mc:AlternateContent>
          <mc:Choice xmlns:a14="http://schemas.microsoft.com/office/drawing/2010/main" Requires="a14">
            <p:sp>
              <p:nvSpPr>
                <p:cNvPr id="464" name="Object 5"/>
                <p:cNvSpPr txBox="1"/>
                <p:nvPr/>
              </p:nvSpPr>
              <p:spPr>
                <a:xfrm>
                  <a:off x="2390760" y="3184560"/>
                  <a:ext cx="68112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5" name="PSText"/>
            <p:cNvSpPr/>
            <p:nvPr/>
          </p:nvSpPr>
          <p:spPr>
            <a:xfrm>
              <a:off x="2390760" y="280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SArrow"/>
            <p:cNvSpPr/>
            <p:nvPr/>
          </p:nvSpPr>
          <p:spPr>
            <a:xfrm>
              <a:off x="2200320" y="305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Picture Choice 3"/>
          <p:cNvGrpSpPr/>
          <p:nvPr/>
        </p:nvGrpSpPr>
        <p:grpSpPr>
          <a:xfrm>
            <a:off x="477720" y="4071960"/>
            <a:ext cx="1022400" cy="1554120"/>
            <a:chOff x="477720" y="4071960"/>
            <a:chExt cx="1022400" cy="1554120"/>
          </a:xfrm>
        </p:grpSpPr>
        <mc:AlternateContent>
          <mc:Choice xmlns:a14="http://schemas.microsoft.com/office/drawing/2010/main" Requires="a14">
            <p:sp>
              <p:nvSpPr>
                <p:cNvPr id="468" name="Object 4"/>
                <p:cNvSpPr txBox="1"/>
                <p:nvPr/>
              </p:nvSpPr>
              <p:spPr>
                <a:xfrm>
                  <a:off x="668160" y="4452840"/>
                  <a:ext cx="8319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PSText"/>
            <p:cNvSpPr/>
            <p:nvPr/>
          </p:nvSpPr>
          <p:spPr>
            <a:xfrm>
              <a:off x="66816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PSArrow"/>
            <p:cNvSpPr/>
            <p:nvPr/>
          </p:nvSpPr>
          <p:spPr>
            <a:xfrm>
              <a:off x="47772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Picture Choice 4"/>
          <p:cNvGrpSpPr/>
          <p:nvPr/>
        </p:nvGrpSpPr>
        <p:grpSpPr>
          <a:xfrm>
            <a:off x="2214720" y="4875120"/>
            <a:ext cx="1022040" cy="1554120"/>
            <a:chOff x="2214720" y="4875120"/>
            <a:chExt cx="1022040" cy="1554120"/>
          </a:xfrm>
        </p:grpSpPr>
        <mc:AlternateContent>
          <mc:Choice xmlns:a14="http://schemas.microsoft.com/office/drawing/2010/main" Requires="a14">
            <p:sp>
              <p:nvSpPr>
                <p:cNvPr id="472" name="PSPic"/>
                <p:cNvSpPr txBox="1"/>
                <p:nvPr/>
              </p:nvSpPr>
              <p:spPr>
                <a:xfrm>
                  <a:off x="2405160" y="5256000"/>
                  <a:ext cx="8316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PSText"/>
            <p:cNvSpPr/>
            <p:nvPr/>
          </p:nvSpPr>
          <p:spPr>
            <a:xfrm>
              <a:off x="2405160" y="48751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PSArrow"/>
            <p:cNvSpPr/>
            <p:nvPr/>
          </p:nvSpPr>
          <p:spPr>
            <a:xfrm>
              <a:off x="2214720" y="5128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CorShape1"/>
          <p:cNvSpPr/>
          <p:nvPr/>
        </p:nvSpPr>
        <p:spPr>
          <a:xfrm rot="10800000">
            <a:off x="1073160" y="18572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ntegrals does not make sen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5072040" y="1650960"/>
          <a:ext cx="40086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650960"/>
                    <a:ext cx="40086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Picture Choice 1"/>
          <p:cNvGrpSpPr/>
          <p:nvPr/>
        </p:nvGrpSpPr>
        <p:grpSpPr>
          <a:xfrm>
            <a:off x="142920" y="1357200"/>
            <a:ext cx="2879640" cy="1343160"/>
            <a:chOff x="142920" y="1357200"/>
            <a:chExt cx="2879640" cy="1343160"/>
          </a:xfrm>
        </p:grpSpPr>
        <mc:AlternateContent>
          <mc:Choice xmlns:a14="http://schemas.microsoft.com/office/drawing/2010/main" Requires="a14">
            <p:sp>
              <p:nvSpPr>
                <p:cNvPr id="58" name="Object 6"/>
                <p:cNvSpPr txBox="1"/>
                <p:nvPr/>
              </p:nvSpPr>
              <p:spPr>
                <a:xfrm>
                  <a:off x="333360" y="1738080"/>
                  <a:ext cx="2689200" cy="96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z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zdy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9" name="PSText"/>
            <p:cNvSpPr/>
            <p:nvPr/>
          </p:nvSpPr>
          <p:spPr>
            <a:xfrm>
              <a:off x="333360" y="1357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SArrow"/>
            <p:cNvSpPr/>
            <p:nvPr/>
          </p:nvSpPr>
          <p:spPr>
            <a:xfrm>
              <a:off x="142920" y="1611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Picture Choice 2"/>
          <p:cNvGrpSpPr/>
          <p:nvPr/>
        </p:nvGrpSpPr>
        <p:grpSpPr>
          <a:xfrm>
            <a:off x="1846440" y="2568600"/>
            <a:ext cx="2893680" cy="1317600"/>
            <a:chOff x="1846440" y="2568600"/>
            <a:chExt cx="2893680" cy="1317600"/>
          </a:xfrm>
        </p:grpSpPr>
        <mc:AlternateContent>
          <mc:Choice xmlns:a14="http://schemas.microsoft.com/office/drawing/2010/main" Requires="a14">
            <p:sp>
              <p:nvSpPr>
                <p:cNvPr id="62" name="PSPic"/>
                <p:cNvSpPr txBox="1"/>
                <p:nvPr/>
              </p:nvSpPr>
              <p:spPr>
                <a:xfrm>
                  <a:off x="1951200" y="2949480"/>
                  <a:ext cx="278892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4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dxdz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3" name="PSText"/>
            <p:cNvSpPr/>
            <p:nvPr/>
          </p:nvSpPr>
          <p:spPr>
            <a:xfrm>
              <a:off x="2036880" y="25686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SArrow"/>
            <p:cNvSpPr/>
            <p:nvPr/>
          </p:nvSpPr>
          <p:spPr>
            <a:xfrm>
              <a:off x="1846440" y="2822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Picture Choice 3"/>
          <p:cNvGrpSpPr/>
          <p:nvPr/>
        </p:nvGrpSpPr>
        <p:grpSpPr>
          <a:xfrm>
            <a:off x="142920" y="3486240"/>
            <a:ext cx="3546360" cy="1466640"/>
            <a:chOff x="142920" y="3486240"/>
            <a:chExt cx="3546360" cy="1466640"/>
          </a:xfrm>
        </p:grpSpPr>
        <mc:AlternateContent>
          <mc:Choice xmlns:a14="http://schemas.microsoft.com/office/drawing/2010/main" Requires="a14">
            <p:sp>
              <p:nvSpPr>
                <p:cNvPr id="66" name="Object 4"/>
                <p:cNvSpPr txBox="1"/>
                <p:nvPr/>
              </p:nvSpPr>
              <p:spPr>
                <a:xfrm>
                  <a:off x="333360" y="3867120"/>
                  <a:ext cx="3355920" cy="108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b>
                            <m:sup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ydz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7" name="PSText"/>
            <p:cNvSpPr/>
            <p:nvPr/>
          </p:nvSpPr>
          <p:spPr>
            <a:xfrm>
              <a:off x="333360" y="34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SArrow"/>
            <p:cNvSpPr/>
            <p:nvPr/>
          </p:nvSpPr>
          <p:spPr>
            <a:xfrm>
              <a:off x="142920" y="37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Picture Choice 4"/>
          <p:cNvGrpSpPr/>
          <p:nvPr/>
        </p:nvGrpSpPr>
        <p:grpSpPr>
          <a:xfrm>
            <a:off x="1763640" y="4935600"/>
            <a:ext cx="3335400" cy="1465200"/>
            <a:chOff x="1763640" y="4935600"/>
            <a:chExt cx="3335400" cy="1465200"/>
          </a:xfrm>
        </p:grpSpPr>
        <mc:AlternateContent>
          <mc:Choice xmlns:a14="http://schemas.microsoft.com/office/drawing/2010/main" Requires="a14">
            <p:sp>
              <p:nvSpPr>
                <p:cNvPr id="70" name="Object 5"/>
                <p:cNvSpPr txBox="1"/>
                <p:nvPr/>
              </p:nvSpPr>
              <p:spPr>
                <a:xfrm>
                  <a:off x="2163600" y="5365800"/>
                  <a:ext cx="293544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9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dxdy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1" name="PSText"/>
            <p:cNvSpPr/>
            <p:nvPr/>
          </p:nvSpPr>
          <p:spPr>
            <a:xfrm>
              <a:off x="1954080" y="4935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SArrow"/>
            <p:cNvSpPr/>
            <p:nvPr/>
          </p:nvSpPr>
          <p:spPr>
            <a:xfrm>
              <a:off x="1763640" y="5189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orShape1"/>
          <p:cNvSpPr/>
          <p:nvPr/>
        </p:nvSpPr>
        <p:spPr>
          <a:xfrm rot="10800000">
            <a:off x="2428920" y="25398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volume under the plan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f(x, y)=3x+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above the rectang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2428920" y="1500120"/>
                <a:ext cx="4276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y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rShape1"/>
          <p:cNvSpPr/>
          <p:nvPr/>
        </p:nvSpPr>
        <p:spPr>
          <a:xfrm rot="10800000">
            <a:off x="172800" y="31525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tetrahedron is enclosed by the planes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, y=0, z=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+z=6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ress this as a triple integr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TPChart"/>
          <p:cNvGraphicFramePr/>
          <p:nvPr/>
        </p:nvGraphicFramePr>
        <p:xfrm>
          <a:off x="5286240" y="2357280"/>
          <a:ext cx="3794400" cy="44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357280"/>
                    <a:ext cx="3794400" cy="44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Picture Choice 1"/>
          <p:cNvGrpSpPr/>
          <p:nvPr/>
        </p:nvGrpSpPr>
        <p:grpSpPr>
          <a:xfrm>
            <a:off x="214200" y="1643040"/>
            <a:ext cx="3714840" cy="1500120"/>
            <a:chOff x="214200" y="1643040"/>
            <a:chExt cx="3714840" cy="1500120"/>
          </a:xfrm>
        </p:grpSpPr>
        <mc:AlternateContent>
          <mc:Choice xmlns:a14="http://schemas.microsoft.com/office/drawing/2010/main" Requires="a14">
            <p:sp>
              <p:nvSpPr>
                <p:cNvPr id="487" name="Object 4"/>
                <p:cNvSpPr txBox="1"/>
                <p:nvPr/>
              </p:nvSpPr>
              <p:spPr>
                <a:xfrm>
                  <a:off x="390240" y="1995120"/>
                  <a:ext cx="3538800" cy="114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dz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PSText"/>
            <p:cNvSpPr/>
            <p:nvPr/>
          </p:nvSpPr>
          <p:spPr>
            <a:xfrm>
              <a:off x="390240" y="1643040"/>
              <a:ext cx="587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PSArrow"/>
            <p:cNvSpPr/>
            <p:nvPr/>
          </p:nvSpPr>
          <p:spPr>
            <a:xfrm>
              <a:off x="214200" y="1877760"/>
              <a:ext cx="176040" cy="469800"/>
            </a:xfrm>
            <a:custGeom>
              <a:avLst/>
              <a:gdLst>
                <a:gd name="textAreaLeft" fmla="*/ 23400 w 176040"/>
                <a:gd name="textAreaRight" fmla="*/ 152640 w 176040"/>
                <a:gd name="textAreaTop" fmla="*/ 100800 h 469800"/>
                <a:gd name="textAreaBottom" fmla="*/ 34704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3" stAng="-5400000" swAng="-5400000"/>
                  <a:lnTo>
                    <a:pt x="0" y="11305"/>
                  </a:lnTo>
                  <a:arcTo wR="21600" hR="9283" stAng="10800000" swAng="-3540189"/>
                  <a:lnTo>
                    <a:pt x="16200" y="21305"/>
                  </a:lnTo>
                  <a:lnTo>
                    <a:pt x="21600" y="19577"/>
                  </a:lnTo>
                  <a:lnTo>
                    <a:pt x="16200" y="17259"/>
                  </a:lnTo>
                  <a:lnTo>
                    <a:pt x="16200" y="18271"/>
                  </a:lnTo>
                  <a:arcTo wR="21600" hR="9283" stAng="7259811" swAng="3378440"/>
                  <a:lnTo>
                    <a:pt x="128" y="10294"/>
                  </a:lnTo>
                  <a:arcTo wR="21600" hR="9283" stAng="-10638251" swAng="5238251"/>
                  <a:close/>
                </a:path>
                <a:path fill="darkenLess" w="21600" h="21600">
                  <a:moveTo>
                    <a:pt x="21600" y="0"/>
                  </a:moveTo>
                  <a:arcTo wR="21600" hR="9283" stAng="-5400000" swAng="-5400000"/>
                  <a:lnTo>
                    <a:pt x="0" y="9283"/>
                  </a:lnTo>
                  <a:arcTo wR="21600" hR="9283" stAng="10800000" swAng="-161749"/>
                  <a:lnTo>
                    <a:pt x="128" y="10294"/>
                  </a:lnTo>
                  <a:arcTo wR="21600" hR="9283" stAng="-10638251" swAng="5238251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Picture Choice 2"/>
          <p:cNvGrpSpPr/>
          <p:nvPr/>
        </p:nvGrpSpPr>
        <p:grpSpPr>
          <a:xfrm>
            <a:off x="1714680" y="3000240"/>
            <a:ext cx="3622320" cy="1428840"/>
            <a:chOff x="1714680" y="3000240"/>
            <a:chExt cx="3622320" cy="1428840"/>
          </a:xfrm>
        </p:grpSpPr>
        <mc:AlternateContent>
          <mc:Choice xmlns:a14="http://schemas.microsoft.com/office/drawing/2010/main" Requires="a14">
            <p:sp>
              <p:nvSpPr>
                <p:cNvPr id="491" name="PSPic"/>
                <p:cNvSpPr txBox="1"/>
                <p:nvPr/>
              </p:nvSpPr>
              <p:spPr>
                <a:xfrm>
                  <a:off x="1887840" y="3335760"/>
                  <a:ext cx="3449160" cy="109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z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z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dy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PSText"/>
            <p:cNvSpPr/>
            <p:nvPr/>
          </p:nvSpPr>
          <p:spPr>
            <a:xfrm>
              <a:off x="1887840" y="3000240"/>
              <a:ext cx="57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PSArrow"/>
            <p:cNvSpPr/>
            <p:nvPr/>
          </p:nvSpPr>
          <p:spPr>
            <a:xfrm>
              <a:off x="1714680" y="3223800"/>
              <a:ext cx="172800" cy="447480"/>
            </a:xfrm>
            <a:custGeom>
              <a:avLst/>
              <a:gdLst>
                <a:gd name="textAreaLeft" fmla="*/ 23040 w 172800"/>
                <a:gd name="textAreaRight" fmla="*/ 149760 w 172800"/>
                <a:gd name="textAreaTop" fmla="*/ 96120 h 447480"/>
                <a:gd name="textAreaBottom" fmla="*/ 330480 h 44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6" stAng="-5400000" swAng="-5400000"/>
                  <a:lnTo>
                    <a:pt x="0" y="11305"/>
                  </a:lnTo>
                  <a:arcTo wR="21600" hR="9286" stAng="10800000" swAng="-3540597"/>
                  <a:lnTo>
                    <a:pt x="16200" y="21305"/>
                  </a:lnTo>
                  <a:lnTo>
                    <a:pt x="21600" y="19581"/>
                  </a:lnTo>
                  <a:lnTo>
                    <a:pt x="16200" y="17266"/>
                  </a:lnTo>
                  <a:lnTo>
                    <a:pt x="16200" y="18276"/>
                  </a:lnTo>
                  <a:arcTo wR="21600" hR="9286" stAng="7259403" swAng="3379091"/>
                  <a:lnTo>
                    <a:pt x="128" y="10295"/>
                  </a:lnTo>
                  <a:arcTo wR="21600" hR="9286" stAng="-10638494" swAng="5238494"/>
                  <a:close/>
                </a:path>
                <a:path fill="darkenLess" w="21600" h="21600">
                  <a:moveTo>
                    <a:pt x="21600" y="0"/>
                  </a:moveTo>
                  <a:arcTo wR="21600" hR="9286" stAng="-5400000" swAng="-5400000"/>
                  <a:lnTo>
                    <a:pt x="0" y="9286"/>
                  </a:lnTo>
                  <a:arcTo wR="21600" hR="9286" stAng="10800000" swAng="-161506"/>
                  <a:lnTo>
                    <a:pt x="128" y="10295"/>
                  </a:lnTo>
                  <a:arcTo wR="21600" hR="9286" stAng="-10638494" swAng="5238494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Picture Choice 3"/>
          <p:cNvGrpSpPr/>
          <p:nvPr/>
        </p:nvGrpSpPr>
        <p:grpSpPr>
          <a:xfrm>
            <a:off x="214200" y="3929040"/>
            <a:ext cx="3357720" cy="1500120"/>
            <a:chOff x="214200" y="3929040"/>
            <a:chExt cx="3357720" cy="1500120"/>
          </a:xfrm>
        </p:grpSpPr>
        <mc:AlternateContent>
          <mc:Choice xmlns:a14="http://schemas.microsoft.com/office/drawing/2010/main" Requires="a14">
            <p:sp>
              <p:nvSpPr>
                <p:cNvPr id="495" name="Object 5"/>
                <p:cNvSpPr txBox="1"/>
                <p:nvPr/>
              </p:nvSpPr>
              <p:spPr>
                <a:xfrm>
                  <a:off x="393840" y="4281120"/>
                  <a:ext cx="3178080" cy="114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6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6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dy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96" name="PSText"/>
            <p:cNvSpPr/>
            <p:nvPr/>
          </p:nvSpPr>
          <p:spPr>
            <a:xfrm>
              <a:off x="393840" y="3929040"/>
              <a:ext cx="59940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PSArrow"/>
            <p:cNvSpPr/>
            <p:nvPr/>
          </p:nvSpPr>
          <p:spPr>
            <a:xfrm>
              <a:off x="214200" y="4163760"/>
              <a:ext cx="179280" cy="46980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100800 h 469800"/>
                <a:gd name="textAreaBottom" fmla="*/ 34704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6" stAng="-5400000" swAng="-5400000"/>
                  <a:lnTo>
                    <a:pt x="0" y="11304"/>
                  </a:lnTo>
                  <a:arcTo wR="21600" hR="9286" stAng="10800000" swAng="-3540679"/>
                  <a:lnTo>
                    <a:pt x="16200" y="21305"/>
                  </a:lnTo>
                  <a:lnTo>
                    <a:pt x="21600" y="19581"/>
                  </a:lnTo>
                  <a:lnTo>
                    <a:pt x="16200" y="17267"/>
                  </a:lnTo>
                  <a:lnTo>
                    <a:pt x="16200" y="18277"/>
                  </a:lnTo>
                  <a:arcTo wR="21600" hR="9286" stAng="7259321" swAng="3379254"/>
                  <a:lnTo>
                    <a:pt x="128" y="10295"/>
                  </a:lnTo>
                  <a:arcTo wR="21600" hR="9286" stAng="-10638575" swAng="5238575"/>
                  <a:close/>
                </a:path>
                <a:path fill="darkenLess" w="21600" h="21600">
                  <a:moveTo>
                    <a:pt x="21600" y="0"/>
                  </a:moveTo>
                  <a:arcTo wR="21600" hR="9286" stAng="-5400000" swAng="-5400000"/>
                  <a:lnTo>
                    <a:pt x="0" y="9286"/>
                  </a:lnTo>
                  <a:arcTo wR="21600" hR="9286" stAng="10800000" swAng="-161425"/>
                  <a:lnTo>
                    <a:pt x="128" y="10295"/>
                  </a:lnTo>
                  <a:arcTo wR="21600" hR="9286" stAng="-10638575" swAng="5238575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Picture Choice 4"/>
          <p:cNvGrpSpPr/>
          <p:nvPr/>
        </p:nvGrpSpPr>
        <p:grpSpPr>
          <a:xfrm>
            <a:off x="1558800" y="5286240"/>
            <a:ext cx="3942000" cy="1428840"/>
            <a:chOff x="1558800" y="5286240"/>
            <a:chExt cx="3942000" cy="1428840"/>
          </a:xfrm>
        </p:grpSpPr>
        <mc:AlternateContent>
          <mc:Choice xmlns:a14="http://schemas.microsoft.com/office/drawing/2010/main" Requires="a14">
            <p:sp>
              <p:nvSpPr>
                <p:cNvPr id="499" name="Object 6"/>
                <p:cNvSpPr txBox="1"/>
                <p:nvPr/>
              </p:nvSpPr>
              <p:spPr>
                <a:xfrm>
                  <a:off x="1745640" y="5621760"/>
                  <a:ext cx="3755160" cy="109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6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sup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dydx</m:t>
                                  </m:r>
                                </m:e>
                              </m:nary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PSText"/>
            <p:cNvSpPr/>
            <p:nvPr/>
          </p:nvSpPr>
          <p:spPr>
            <a:xfrm>
              <a:off x="1745640" y="5286240"/>
              <a:ext cx="623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PSArrow"/>
            <p:cNvSpPr/>
            <p:nvPr/>
          </p:nvSpPr>
          <p:spPr>
            <a:xfrm>
              <a:off x="1558800" y="5509800"/>
              <a:ext cx="187200" cy="447480"/>
            </a:xfrm>
            <a:custGeom>
              <a:avLst/>
              <a:gdLst>
                <a:gd name="textAreaLeft" fmla="*/ 24840 w 187200"/>
                <a:gd name="textAreaRight" fmla="*/ 162360 w 187200"/>
                <a:gd name="textAreaTop" fmla="*/ 96120 h 447480"/>
                <a:gd name="textAreaBottom" fmla="*/ 330480 h 44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CorShape1"/>
          <p:cNvSpPr/>
          <p:nvPr/>
        </p:nvSpPr>
        <p:spPr>
          <a:xfrm rot="10800000">
            <a:off x="2144520" y="5214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tetrahedron is enclosed by the planes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, y=0, z=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+z=6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 Find the position of the centre of m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TPChart"/>
          <p:cNvGraphicFramePr/>
          <p:nvPr/>
        </p:nvGraphicFramePr>
        <p:xfrm>
          <a:off x="4508640" y="1785960"/>
          <a:ext cx="457200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85960"/>
                    <a:ext cx="45720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Picture Choice 1"/>
          <p:cNvGrpSpPr/>
          <p:nvPr/>
        </p:nvGrpSpPr>
        <p:grpSpPr>
          <a:xfrm>
            <a:off x="285840" y="1714680"/>
            <a:ext cx="1936800" cy="1638000"/>
            <a:chOff x="285840" y="1714680"/>
            <a:chExt cx="1936800" cy="1638000"/>
          </a:xfrm>
        </p:grpSpPr>
        <mc:AlternateContent>
          <mc:Choice xmlns:a14="http://schemas.microsoft.com/office/drawing/2010/main" Requires="a14">
            <p:sp>
              <p:nvSpPr>
                <p:cNvPr id="508" name="Object 5"/>
                <p:cNvSpPr txBox="1"/>
                <p:nvPr/>
              </p:nvSpPr>
              <p:spPr>
                <a:xfrm>
                  <a:off x="476280" y="2095560"/>
                  <a:ext cx="174636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PSText"/>
            <p:cNvSpPr/>
            <p:nvPr/>
          </p:nvSpPr>
          <p:spPr>
            <a:xfrm>
              <a:off x="47628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PSArrow"/>
            <p:cNvSpPr/>
            <p:nvPr/>
          </p:nvSpPr>
          <p:spPr>
            <a:xfrm>
              <a:off x="28584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Picture Choice 2"/>
          <p:cNvGrpSpPr/>
          <p:nvPr/>
        </p:nvGrpSpPr>
        <p:grpSpPr>
          <a:xfrm>
            <a:off x="2154240" y="3071880"/>
            <a:ext cx="1203480" cy="974520"/>
            <a:chOff x="2154240" y="3071880"/>
            <a:chExt cx="1203480" cy="974520"/>
          </a:xfrm>
        </p:grpSpPr>
        <mc:AlternateContent>
          <mc:Choice xmlns:a14="http://schemas.microsoft.com/office/drawing/2010/main" Requires="a14">
            <p:sp>
              <p:nvSpPr>
                <p:cNvPr id="512" name="PSPic"/>
                <p:cNvSpPr txBox="1"/>
                <p:nvPr/>
              </p:nvSpPr>
              <p:spPr>
                <a:xfrm>
                  <a:off x="2344680" y="3452760"/>
                  <a:ext cx="10130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,1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PSText"/>
            <p:cNvSpPr/>
            <p:nvPr/>
          </p:nvSpPr>
          <p:spPr>
            <a:xfrm>
              <a:off x="234468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PSArrow"/>
            <p:cNvSpPr/>
            <p:nvPr/>
          </p:nvSpPr>
          <p:spPr>
            <a:xfrm>
              <a:off x="215424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Picture Choice 3"/>
          <p:cNvGrpSpPr/>
          <p:nvPr/>
        </p:nvGrpSpPr>
        <p:grpSpPr>
          <a:xfrm>
            <a:off x="357120" y="3714840"/>
            <a:ext cx="1936800" cy="1638360"/>
            <a:chOff x="357120" y="3714840"/>
            <a:chExt cx="1936800" cy="1638360"/>
          </a:xfrm>
        </p:grpSpPr>
        <mc:AlternateContent>
          <mc:Choice xmlns:a14="http://schemas.microsoft.com/office/drawing/2010/main" Requires="a14">
            <p:sp>
              <p:nvSpPr>
                <p:cNvPr id="516" name="Object 6"/>
                <p:cNvSpPr txBox="1"/>
                <p:nvPr/>
              </p:nvSpPr>
              <p:spPr>
                <a:xfrm>
                  <a:off x="547560" y="4095720"/>
                  <a:ext cx="1746360" cy="12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7" name="PSText"/>
            <p:cNvSpPr/>
            <p:nvPr/>
          </p:nvSpPr>
          <p:spPr>
            <a:xfrm>
              <a:off x="54756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PSArrow"/>
            <p:cNvSpPr/>
            <p:nvPr/>
          </p:nvSpPr>
          <p:spPr>
            <a:xfrm>
              <a:off x="35712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Picture Choice 4"/>
          <p:cNvGrpSpPr/>
          <p:nvPr/>
        </p:nvGrpSpPr>
        <p:grpSpPr>
          <a:xfrm>
            <a:off x="2214720" y="5072040"/>
            <a:ext cx="1936440" cy="1638360"/>
            <a:chOff x="2214720" y="5072040"/>
            <a:chExt cx="1936440" cy="1638360"/>
          </a:xfrm>
        </p:grpSpPr>
        <mc:AlternateContent>
          <mc:Choice xmlns:a14="http://schemas.microsoft.com/office/drawing/2010/main" Requires="a14">
            <p:sp>
              <p:nvSpPr>
                <p:cNvPr id="520" name="Object 4"/>
                <p:cNvSpPr txBox="1"/>
                <p:nvPr/>
              </p:nvSpPr>
              <p:spPr>
                <a:xfrm>
                  <a:off x="2405160" y="5452920"/>
                  <a:ext cx="1746000" cy="12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PSText"/>
            <p:cNvSpPr/>
            <p:nvPr/>
          </p:nvSpPr>
          <p:spPr>
            <a:xfrm>
              <a:off x="2405160" y="5072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PSArrow"/>
            <p:cNvSpPr/>
            <p:nvPr/>
          </p:nvSpPr>
          <p:spPr>
            <a:xfrm>
              <a:off x="221472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CorShape1"/>
          <p:cNvSpPr/>
          <p:nvPr/>
        </p:nvSpPr>
        <p:spPr>
          <a:xfrm rot="10800000">
            <a:off x="1000080" y="3716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represents the 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integral                  after the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ner integral has been evalu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TPChart"/>
          <p:cNvGraphicFramePr/>
          <p:nvPr/>
        </p:nvGraphicFramePr>
        <p:xfrm>
          <a:off x="5000760" y="2214720"/>
          <a:ext cx="407988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214720"/>
                    <a:ext cx="40798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4214880" y="500040"/>
                <a:ext cx="2238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Picture Choice 1"/>
          <p:cNvGrpSpPr/>
          <p:nvPr/>
        </p:nvGrpSpPr>
        <p:grpSpPr>
          <a:xfrm>
            <a:off x="214200" y="2071800"/>
            <a:ext cx="3113280" cy="1628640"/>
            <a:chOff x="214200" y="2071800"/>
            <a:chExt cx="3113280" cy="1628640"/>
          </a:xfrm>
        </p:grpSpPr>
        <mc:AlternateContent>
          <mc:Choice xmlns:a14="http://schemas.microsoft.com/office/drawing/2010/main" Requires="a14">
            <p:sp>
              <p:nvSpPr>
                <p:cNvPr id="530" name="Object 7"/>
                <p:cNvSpPr txBox="1"/>
                <p:nvPr/>
              </p:nvSpPr>
              <p:spPr>
                <a:xfrm>
                  <a:off x="404640" y="2452680"/>
                  <a:ext cx="292284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nary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PSText"/>
            <p:cNvSpPr/>
            <p:nvPr/>
          </p:nvSpPr>
          <p:spPr>
            <a:xfrm>
              <a:off x="40464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PSArrow"/>
            <p:cNvSpPr/>
            <p:nvPr/>
          </p:nvSpPr>
          <p:spPr>
            <a:xfrm>
              <a:off x="21420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Picture Choice 2"/>
          <p:cNvGrpSpPr/>
          <p:nvPr/>
        </p:nvGrpSpPr>
        <p:grpSpPr>
          <a:xfrm>
            <a:off x="2101680" y="3214800"/>
            <a:ext cx="3113280" cy="1628640"/>
            <a:chOff x="2101680" y="3214800"/>
            <a:chExt cx="3113280" cy="1628640"/>
          </a:xfrm>
        </p:grpSpPr>
        <mc:AlternateContent>
          <mc:Choice xmlns:a14="http://schemas.microsoft.com/office/drawing/2010/main" Requires="a14">
            <p:sp>
              <p:nvSpPr>
                <p:cNvPr id="534" name="Object 6"/>
                <p:cNvSpPr txBox="1"/>
                <p:nvPr/>
              </p:nvSpPr>
              <p:spPr>
                <a:xfrm>
                  <a:off x="2292120" y="3595680"/>
                  <a:ext cx="292284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nary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PSText"/>
            <p:cNvSpPr/>
            <p:nvPr/>
          </p:nvSpPr>
          <p:spPr>
            <a:xfrm>
              <a:off x="229212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PSArrow"/>
            <p:cNvSpPr/>
            <p:nvPr/>
          </p:nvSpPr>
          <p:spPr>
            <a:xfrm>
              <a:off x="210168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Picture Choice 3"/>
          <p:cNvGrpSpPr/>
          <p:nvPr/>
        </p:nvGrpSpPr>
        <p:grpSpPr>
          <a:xfrm>
            <a:off x="285840" y="4143240"/>
            <a:ext cx="2390760" cy="1629000"/>
            <a:chOff x="285840" y="4143240"/>
            <a:chExt cx="2390760" cy="1629000"/>
          </a:xfrm>
        </p:grpSpPr>
        <mc:AlternateContent>
          <mc:Choice xmlns:a14="http://schemas.microsoft.com/office/drawing/2010/main" Requires="a14">
            <p:sp>
              <p:nvSpPr>
                <p:cNvPr id="538" name="Object 5"/>
                <p:cNvSpPr txBox="1"/>
                <p:nvPr/>
              </p:nvSpPr>
              <p:spPr>
                <a:xfrm>
                  <a:off x="476280" y="4524120"/>
                  <a:ext cx="2200320" cy="12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nary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9" name="PSText"/>
            <p:cNvSpPr/>
            <p:nvPr/>
          </p:nvSpPr>
          <p:spPr>
            <a:xfrm>
              <a:off x="47628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PSArrow"/>
            <p:cNvSpPr/>
            <p:nvPr/>
          </p:nvSpPr>
          <p:spPr>
            <a:xfrm>
              <a:off x="28584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Picture Choice 4"/>
          <p:cNvGrpSpPr/>
          <p:nvPr/>
        </p:nvGrpSpPr>
        <p:grpSpPr>
          <a:xfrm>
            <a:off x="2065320" y="5229360"/>
            <a:ext cx="2292480" cy="1628640"/>
            <a:chOff x="2065320" y="5229360"/>
            <a:chExt cx="2292480" cy="1628640"/>
          </a:xfrm>
        </p:grpSpPr>
        <mc:AlternateContent>
          <mc:Choice xmlns:a14="http://schemas.microsoft.com/office/drawing/2010/main" Requires="a14">
            <p:sp>
              <p:nvSpPr>
                <p:cNvPr id="542" name="PSPic"/>
                <p:cNvSpPr txBox="1"/>
                <p:nvPr/>
              </p:nvSpPr>
              <p:spPr>
                <a:xfrm>
                  <a:off x="2255760" y="5610240"/>
                  <a:ext cx="210204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3</m:t>
                          </m:r>
                        </m:e>
                      </m:nary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3" name="PSText"/>
            <p:cNvSpPr/>
            <p:nvPr/>
          </p:nvSpPr>
          <p:spPr>
            <a:xfrm>
              <a:off x="2255760" y="5229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PSArrow"/>
            <p:cNvSpPr/>
            <p:nvPr/>
          </p:nvSpPr>
          <p:spPr>
            <a:xfrm>
              <a:off x="2065320" y="5483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CorShape1"/>
          <p:cNvSpPr/>
          <p:nvPr/>
        </p:nvSpPr>
        <p:spPr>
          <a:xfrm rot="10800000">
            <a:off x="785880" y="2143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represents the 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integral                  after the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ner integral has been evalu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TPChart"/>
          <p:cNvGraphicFramePr/>
          <p:nvPr/>
        </p:nvGraphicFramePr>
        <p:xfrm>
          <a:off x="5000760" y="2214720"/>
          <a:ext cx="407988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214720"/>
                    <a:ext cx="40798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121280" y="500040"/>
                <a:ext cx="2425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y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Picture Choice 1"/>
          <p:cNvGrpSpPr/>
          <p:nvPr/>
        </p:nvGrpSpPr>
        <p:grpSpPr>
          <a:xfrm>
            <a:off x="214200" y="2071800"/>
            <a:ext cx="2898720" cy="1628640"/>
            <a:chOff x="214200" y="2071800"/>
            <a:chExt cx="2898720" cy="1628640"/>
          </a:xfrm>
        </p:grpSpPr>
        <mc:AlternateContent>
          <mc:Choice xmlns:a14="http://schemas.microsoft.com/office/drawing/2010/main" Requires="a14">
            <p:sp>
              <p:nvSpPr>
                <p:cNvPr id="552" name="Object 7"/>
                <p:cNvSpPr txBox="1"/>
                <p:nvPr/>
              </p:nvSpPr>
              <p:spPr>
                <a:xfrm>
                  <a:off x="617400" y="2452680"/>
                  <a:ext cx="249552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7</m:t>
                          </m:r>
                        </m:e>
                      </m:nary>
                      <m:r>
                        <m:t xml:space="preserve">(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3" name="PSText"/>
            <p:cNvSpPr/>
            <p:nvPr/>
          </p:nvSpPr>
          <p:spPr>
            <a:xfrm>
              <a:off x="40464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PSArrow"/>
            <p:cNvSpPr/>
            <p:nvPr/>
          </p:nvSpPr>
          <p:spPr>
            <a:xfrm>
              <a:off x="21420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Picture Choice 2"/>
          <p:cNvGrpSpPr/>
          <p:nvPr/>
        </p:nvGrpSpPr>
        <p:grpSpPr>
          <a:xfrm>
            <a:off x="2101680" y="3214800"/>
            <a:ext cx="2932200" cy="1628640"/>
            <a:chOff x="2101680" y="3214800"/>
            <a:chExt cx="2932200" cy="1628640"/>
          </a:xfrm>
        </p:grpSpPr>
        <mc:AlternateContent>
          <mc:Choice xmlns:a14="http://schemas.microsoft.com/office/drawing/2010/main" Requires="a14">
            <p:sp>
              <p:nvSpPr>
                <p:cNvPr id="556" name="Object 6"/>
                <p:cNvSpPr txBox="1"/>
                <p:nvPr/>
              </p:nvSpPr>
              <p:spPr>
                <a:xfrm>
                  <a:off x="2473200" y="3595680"/>
                  <a:ext cx="256068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nary>
                      <m:r>
                        <m:t xml:space="preserve">(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7" name="PSText"/>
            <p:cNvSpPr/>
            <p:nvPr/>
          </p:nvSpPr>
          <p:spPr>
            <a:xfrm>
              <a:off x="229212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PSArrow"/>
            <p:cNvSpPr/>
            <p:nvPr/>
          </p:nvSpPr>
          <p:spPr>
            <a:xfrm>
              <a:off x="210168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Picture Choice 3"/>
          <p:cNvGrpSpPr/>
          <p:nvPr/>
        </p:nvGrpSpPr>
        <p:grpSpPr>
          <a:xfrm>
            <a:off x="285840" y="4143240"/>
            <a:ext cx="2714400" cy="1629000"/>
            <a:chOff x="285840" y="4143240"/>
            <a:chExt cx="2714400" cy="1629000"/>
          </a:xfrm>
        </p:grpSpPr>
        <mc:AlternateContent>
          <mc:Choice xmlns:a14="http://schemas.microsoft.com/office/drawing/2010/main" Requires="a14">
            <p:sp>
              <p:nvSpPr>
                <p:cNvPr id="560" name="Object 5"/>
                <p:cNvSpPr txBox="1"/>
                <p:nvPr/>
              </p:nvSpPr>
              <p:spPr>
                <a:xfrm>
                  <a:off x="438120" y="4524120"/>
                  <a:ext cx="2562120" cy="12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nary>
                      <m:r>
                        <m:t xml:space="preserve">(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1" name="PSText"/>
            <p:cNvSpPr/>
            <p:nvPr/>
          </p:nvSpPr>
          <p:spPr>
            <a:xfrm>
              <a:off x="476280" y="41432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PSArrow"/>
            <p:cNvSpPr/>
            <p:nvPr/>
          </p:nvSpPr>
          <p:spPr>
            <a:xfrm>
              <a:off x="28584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Picture Choice 4"/>
          <p:cNvGrpSpPr/>
          <p:nvPr/>
        </p:nvGrpSpPr>
        <p:grpSpPr>
          <a:xfrm>
            <a:off x="2065320" y="5229360"/>
            <a:ext cx="2687760" cy="1628640"/>
            <a:chOff x="2065320" y="5229360"/>
            <a:chExt cx="2687760" cy="1628640"/>
          </a:xfrm>
        </p:grpSpPr>
        <mc:AlternateContent>
          <mc:Choice xmlns:a14="http://schemas.microsoft.com/office/drawing/2010/main" Requires="a14">
            <p:sp>
              <p:nvSpPr>
                <p:cNvPr id="564" name="PSPic"/>
                <p:cNvSpPr txBox="1"/>
                <p:nvPr/>
              </p:nvSpPr>
              <p:spPr>
                <a:xfrm>
                  <a:off x="2257200" y="5610240"/>
                  <a:ext cx="249588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7</m:t>
                          </m:r>
                        </m:e>
                      </m:nary>
                      <m:r>
                        <m:t xml:space="preserve">(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PSText"/>
            <p:cNvSpPr/>
            <p:nvPr/>
          </p:nvSpPr>
          <p:spPr>
            <a:xfrm>
              <a:off x="2255760" y="5229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PSArrow"/>
            <p:cNvSpPr/>
            <p:nvPr/>
          </p:nvSpPr>
          <p:spPr>
            <a:xfrm>
              <a:off x="2065320" y="5483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CorShape1"/>
          <p:cNvSpPr/>
          <p:nvPr/>
        </p:nvSpPr>
        <p:spPr>
          <a:xfrm rot="10800000">
            <a:off x="928440" y="4143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moment of inertia about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-axis of a cube of side 2, mas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uniform dens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Picture Choice 1"/>
          <p:cNvGrpSpPr/>
          <p:nvPr/>
        </p:nvGrpSpPr>
        <p:grpSpPr>
          <a:xfrm>
            <a:off x="571680" y="1857240"/>
            <a:ext cx="849240" cy="1198800"/>
            <a:chOff x="571680" y="1857240"/>
            <a:chExt cx="849240" cy="1198800"/>
          </a:xfrm>
        </p:grpSpPr>
        <mc:AlternateContent>
          <mc:Choice xmlns:a14="http://schemas.microsoft.com/office/drawing/2010/main" Requires="a14">
            <p:sp>
              <p:nvSpPr>
                <p:cNvPr id="573" name="PSPic"/>
                <p:cNvSpPr txBox="1"/>
                <p:nvPr/>
              </p:nvSpPr>
              <p:spPr>
                <a:xfrm>
                  <a:off x="762120" y="2238480"/>
                  <a:ext cx="6588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4" name="PSText"/>
            <p:cNvSpPr/>
            <p:nvPr/>
          </p:nvSpPr>
          <p:spPr>
            <a:xfrm>
              <a:off x="762120" y="185724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PSArrow"/>
            <p:cNvSpPr/>
            <p:nvPr/>
          </p:nvSpPr>
          <p:spPr>
            <a:xfrm>
              <a:off x="57168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Picture Choice 2"/>
          <p:cNvGrpSpPr/>
          <p:nvPr/>
        </p:nvGrpSpPr>
        <p:grpSpPr>
          <a:xfrm>
            <a:off x="2063880" y="2786040"/>
            <a:ext cx="1008000" cy="1198440"/>
            <a:chOff x="2063880" y="2786040"/>
            <a:chExt cx="1008000" cy="1198440"/>
          </a:xfrm>
        </p:grpSpPr>
        <mc:AlternateContent>
          <mc:Choice xmlns:a14="http://schemas.microsoft.com/office/drawing/2010/main" Requires="a14">
            <p:sp>
              <p:nvSpPr>
                <p:cNvPr id="577" name="Object 5"/>
                <p:cNvSpPr txBox="1"/>
                <p:nvPr/>
              </p:nvSpPr>
              <p:spPr>
                <a:xfrm>
                  <a:off x="2254320" y="3166920"/>
                  <a:ext cx="81756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8" name="PSText"/>
            <p:cNvSpPr/>
            <p:nvPr/>
          </p:nvSpPr>
          <p:spPr>
            <a:xfrm>
              <a:off x="225432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PSArrow"/>
            <p:cNvSpPr/>
            <p:nvPr/>
          </p:nvSpPr>
          <p:spPr>
            <a:xfrm>
              <a:off x="206388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Picture Choice 3"/>
          <p:cNvGrpSpPr/>
          <p:nvPr/>
        </p:nvGrpSpPr>
        <p:grpSpPr>
          <a:xfrm>
            <a:off x="500040" y="4016520"/>
            <a:ext cx="1006560" cy="1198440"/>
            <a:chOff x="500040" y="4016520"/>
            <a:chExt cx="1006560" cy="1198440"/>
          </a:xfrm>
        </p:grpSpPr>
        <mc:AlternateContent>
          <mc:Choice xmlns:a14="http://schemas.microsoft.com/office/drawing/2010/main" Requires="a14">
            <p:sp>
              <p:nvSpPr>
                <p:cNvPr id="581" name="Object 4"/>
                <p:cNvSpPr txBox="1"/>
                <p:nvPr/>
              </p:nvSpPr>
              <p:spPr>
                <a:xfrm>
                  <a:off x="690480" y="4397400"/>
                  <a:ext cx="81612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PSText"/>
            <p:cNvSpPr/>
            <p:nvPr/>
          </p:nvSpPr>
          <p:spPr>
            <a:xfrm>
              <a:off x="690480" y="40165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PSArrow"/>
            <p:cNvSpPr/>
            <p:nvPr/>
          </p:nvSpPr>
          <p:spPr>
            <a:xfrm>
              <a:off x="500040" y="4270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Picture Choice 4"/>
          <p:cNvGrpSpPr/>
          <p:nvPr/>
        </p:nvGrpSpPr>
        <p:grpSpPr>
          <a:xfrm>
            <a:off x="1952640" y="5357880"/>
            <a:ext cx="2548080" cy="992880"/>
            <a:chOff x="1952640" y="5357880"/>
            <a:chExt cx="2548080" cy="992880"/>
          </a:xfrm>
        </p:grpSpPr>
        <p:sp>
          <p:nvSpPr>
            <p:cNvPr id="585" name="PSPic"/>
            <p:cNvSpPr/>
            <p:nvPr/>
          </p:nvSpPr>
          <p:spPr>
            <a:xfrm>
              <a:off x="2143080" y="5739120"/>
              <a:ext cx="2357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PSText"/>
            <p:cNvSpPr/>
            <p:nvPr/>
          </p:nvSpPr>
          <p:spPr>
            <a:xfrm>
              <a:off x="2143080" y="53578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PSArrow"/>
            <p:cNvSpPr/>
            <p:nvPr/>
          </p:nvSpPr>
          <p:spPr>
            <a:xfrm>
              <a:off x="195264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CorShape1"/>
          <p:cNvSpPr/>
          <p:nvPr/>
        </p:nvSpPr>
        <p:spPr>
          <a:xfrm rot="10800000">
            <a:off x="1144440" y="18572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nd the centre of pressure of a rectangle of sides 4 and 2, as shown, immersed vertically in a fluid with one of its edges in the surfac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TPChart"/>
          <p:cNvGraphicFramePr/>
          <p:nvPr/>
        </p:nvGraphicFramePr>
        <p:xfrm>
          <a:off x="5464080" y="2428920"/>
          <a:ext cx="361656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4080" y="2428920"/>
                    <a:ext cx="36165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4428720"/>
            <a:ext cx="4114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3"/>
          <a:stretch/>
        </p:blipFill>
        <p:spPr>
          <a:xfrm>
            <a:off x="2571840" y="2604960"/>
            <a:ext cx="3219480" cy="1895760"/>
          </a:xfrm>
          <a:prstGeom prst="rect">
            <a:avLst/>
          </a:prstGeom>
          <a:ln w="0">
            <a:noFill/>
          </a:ln>
        </p:spPr>
      </p:pic>
      <p:grpSp>
        <p:nvGrpSpPr>
          <p:cNvPr id="594" name="Picture Choice 1"/>
          <p:cNvGrpSpPr/>
          <p:nvPr/>
        </p:nvGrpSpPr>
        <p:grpSpPr>
          <a:xfrm>
            <a:off x="142920" y="3786120"/>
            <a:ext cx="1449360" cy="1311480"/>
            <a:chOff x="142920" y="3786120"/>
            <a:chExt cx="1449360" cy="1311480"/>
          </a:xfrm>
        </p:grpSpPr>
        <mc:AlternateContent>
          <mc:Choice xmlns:a14="http://schemas.microsoft.com/office/drawing/2010/main" Requires="a14">
            <p:sp>
              <p:nvSpPr>
                <p:cNvPr id="595" name="Object 6"/>
                <p:cNvSpPr txBox="1"/>
                <p:nvPr/>
              </p:nvSpPr>
              <p:spPr>
                <a:xfrm>
                  <a:off x="333360" y="4167000"/>
                  <a:ext cx="1258920" cy="93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PSText"/>
            <p:cNvSpPr/>
            <p:nvPr/>
          </p:nvSpPr>
          <p:spPr>
            <a:xfrm>
              <a:off x="3333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PSArrow"/>
            <p:cNvSpPr/>
            <p:nvPr/>
          </p:nvSpPr>
          <p:spPr>
            <a:xfrm>
              <a:off x="1429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Picture Choice 2"/>
          <p:cNvGrpSpPr/>
          <p:nvPr/>
        </p:nvGrpSpPr>
        <p:grpSpPr>
          <a:xfrm>
            <a:off x="857160" y="5214960"/>
            <a:ext cx="1285920" cy="1311120"/>
            <a:chOff x="857160" y="5214960"/>
            <a:chExt cx="1285920" cy="1311120"/>
          </a:xfrm>
        </p:grpSpPr>
        <mc:AlternateContent>
          <mc:Choice xmlns:a14="http://schemas.microsoft.com/office/drawing/2010/main" Requires="a14">
            <p:sp>
              <p:nvSpPr>
                <p:cNvPr id="599" name="Object 5"/>
                <p:cNvSpPr txBox="1"/>
                <p:nvPr/>
              </p:nvSpPr>
              <p:spPr>
                <a:xfrm>
                  <a:off x="1047600" y="5595840"/>
                  <a:ext cx="109548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PSText"/>
            <p:cNvSpPr/>
            <p:nvPr/>
          </p:nvSpPr>
          <p:spPr>
            <a:xfrm>
              <a:off x="104760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PSArrow"/>
            <p:cNvSpPr/>
            <p:nvPr/>
          </p:nvSpPr>
          <p:spPr>
            <a:xfrm>
              <a:off x="85716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Picture Choice 3"/>
          <p:cNvGrpSpPr/>
          <p:nvPr/>
        </p:nvGrpSpPr>
        <p:grpSpPr>
          <a:xfrm>
            <a:off x="2571840" y="4500720"/>
            <a:ext cx="1366920" cy="1311120"/>
            <a:chOff x="2571840" y="4500720"/>
            <a:chExt cx="1366920" cy="1311120"/>
          </a:xfrm>
        </p:grpSpPr>
        <mc:AlternateContent>
          <mc:Choice xmlns:a14="http://schemas.microsoft.com/office/drawing/2010/main" Requires="a14">
            <p:sp>
              <p:nvSpPr>
                <p:cNvPr id="603" name="PSPic"/>
                <p:cNvSpPr txBox="1"/>
                <p:nvPr/>
              </p:nvSpPr>
              <p:spPr>
                <a:xfrm>
                  <a:off x="2762280" y="4881600"/>
                  <a:ext cx="117648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PSText"/>
            <p:cNvSpPr/>
            <p:nvPr/>
          </p:nvSpPr>
          <p:spPr>
            <a:xfrm>
              <a:off x="2762280" y="4500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PSArrow"/>
            <p:cNvSpPr/>
            <p:nvPr/>
          </p:nvSpPr>
          <p:spPr>
            <a:xfrm>
              <a:off x="2571840" y="4754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Picture Choice 4"/>
          <p:cNvGrpSpPr/>
          <p:nvPr/>
        </p:nvGrpSpPr>
        <p:grpSpPr>
          <a:xfrm>
            <a:off x="3238560" y="5857920"/>
            <a:ext cx="2690640" cy="962280"/>
            <a:chOff x="3238560" y="5857920"/>
            <a:chExt cx="2690640" cy="962280"/>
          </a:xfrm>
        </p:grpSpPr>
        <p:sp>
          <p:nvSpPr>
            <p:cNvPr id="607" name="PSPic"/>
            <p:cNvSpPr/>
            <p:nvPr/>
          </p:nvSpPr>
          <p:spPr>
            <a:xfrm>
              <a:off x="3429000" y="6238800"/>
              <a:ext cx="25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PSText"/>
            <p:cNvSpPr/>
            <p:nvPr/>
          </p:nvSpPr>
          <p:spPr>
            <a:xfrm>
              <a:off x="3429000" y="58579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PSArrow"/>
            <p:cNvSpPr/>
            <p:nvPr/>
          </p:nvSpPr>
          <p:spPr>
            <a:xfrm>
              <a:off x="3238560" y="6111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CorShape1"/>
          <p:cNvSpPr/>
          <p:nvPr/>
        </p:nvSpPr>
        <p:spPr>
          <a:xfrm rot="10800000">
            <a:off x="3143160" y="45003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rectangular thin plate has the dimensions shown and a variable density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y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 Find the centre of gravity of the lam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TPChart"/>
          <p:cNvGraphicFramePr/>
          <p:nvPr/>
        </p:nvGraphicFramePr>
        <p:xfrm>
          <a:off x="4848120" y="2286000"/>
          <a:ext cx="4295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8120" y="2286000"/>
                    <a:ext cx="4295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3286080" y="2428920"/>
            <a:ext cx="1714680" cy="2082600"/>
          </a:xfrm>
          <a:prstGeom prst="rect">
            <a:avLst/>
          </a:prstGeom>
          <a:ln w="0">
            <a:noFill/>
          </a:ln>
        </p:spPr>
      </p:pic>
      <p:grpSp>
        <p:nvGrpSpPr>
          <p:cNvPr id="616" name="Picture Choice 1"/>
          <p:cNvGrpSpPr/>
          <p:nvPr/>
        </p:nvGrpSpPr>
        <p:grpSpPr>
          <a:xfrm>
            <a:off x="71280" y="2786040"/>
            <a:ext cx="1287720" cy="1292400"/>
            <a:chOff x="71280" y="2786040"/>
            <a:chExt cx="1287720" cy="1292400"/>
          </a:xfrm>
        </p:grpSpPr>
        <mc:AlternateContent>
          <mc:Choice xmlns:a14="http://schemas.microsoft.com/office/drawing/2010/main" Requires="a14">
            <p:sp>
              <p:nvSpPr>
                <p:cNvPr id="617" name="PSPic"/>
                <p:cNvSpPr txBox="1"/>
                <p:nvPr/>
              </p:nvSpPr>
              <p:spPr>
                <a:xfrm>
                  <a:off x="261720" y="3166920"/>
                  <a:ext cx="10972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PSText"/>
            <p:cNvSpPr/>
            <p:nvPr/>
          </p:nvSpPr>
          <p:spPr>
            <a:xfrm>
              <a:off x="26172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PSArrow"/>
            <p:cNvSpPr/>
            <p:nvPr/>
          </p:nvSpPr>
          <p:spPr>
            <a:xfrm>
              <a:off x="7128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Picture Choice 2"/>
          <p:cNvGrpSpPr/>
          <p:nvPr/>
        </p:nvGrpSpPr>
        <p:grpSpPr>
          <a:xfrm>
            <a:off x="1357200" y="3922560"/>
            <a:ext cx="1368360" cy="1292400"/>
            <a:chOff x="1357200" y="3922560"/>
            <a:chExt cx="1368360" cy="1292400"/>
          </a:xfrm>
        </p:grpSpPr>
        <mc:AlternateContent>
          <mc:Choice xmlns:a14="http://schemas.microsoft.com/office/drawing/2010/main" Requires="a14">
            <p:sp>
              <p:nvSpPr>
                <p:cNvPr id="621" name="Object 5"/>
                <p:cNvSpPr txBox="1"/>
                <p:nvPr/>
              </p:nvSpPr>
              <p:spPr>
                <a:xfrm>
                  <a:off x="1547640" y="4303440"/>
                  <a:ext cx="117792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PSText"/>
            <p:cNvSpPr/>
            <p:nvPr/>
          </p:nvSpPr>
          <p:spPr>
            <a:xfrm>
              <a:off x="1547640" y="3922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PSArrow"/>
            <p:cNvSpPr/>
            <p:nvPr/>
          </p:nvSpPr>
          <p:spPr>
            <a:xfrm>
              <a:off x="1357200" y="4176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Picture Choice 3"/>
          <p:cNvGrpSpPr/>
          <p:nvPr/>
        </p:nvGrpSpPr>
        <p:grpSpPr>
          <a:xfrm>
            <a:off x="71280" y="4714920"/>
            <a:ext cx="1287720" cy="1292040"/>
            <a:chOff x="71280" y="4714920"/>
            <a:chExt cx="1287720" cy="1292040"/>
          </a:xfrm>
        </p:grpSpPr>
        <mc:AlternateContent>
          <mc:Choice xmlns:a14="http://schemas.microsoft.com/office/drawing/2010/main" Requires="a14">
            <p:sp>
              <p:nvSpPr>
                <p:cNvPr id="625" name="Object 6"/>
                <p:cNvSpPr txBox="1"/>
                <p:nvPr/>
              </p:nvSpPr>
              <p:spPr>
                <a:xfrm>
                  <a:off x="261720" y="5095800"/>
                  <a:ext cx="10972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PSText"/>
            <p:cNvSpPr/>
            <p:nvPr/>
          </p:nvSpPr>
          <p:spPr>
            <a:xfrm>
              <a:off x="26172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PSArrow"/>
            <p:cNvSpPr/>
            <p:nvPr/>
          </p:nvSpPr>
          <p:spPr>
            <a:xfrm>
              <a:off x="71280" y="496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Picture Choice 4"/>
          <p:cNvGrpSpPr/>
          <p:nvPr/>
        </p:nvGrpSpPr>
        <p:grpSpPr>
          <a:xfrm>
            <a:off x="1428840" y="5565600"/>
            <a:ext cx="1368360" cy="1292400"/>
            <a:chOff x="1428840" y="5565600"/>
            <a:chExt cx="1368360" cy="1292400"/>
          </a:xfrm>
        </p:grpSpPr>
        <mc:AlternateContent>
          <mc:Choice xmlns:a14="http://schemas.microsoft.com/office/drawing/2010/main" Requires="a14">
            <p:sp>
              <p:nvSpPr>
                <p:cNvPr id="629" name="Object 7"/>
                <p:cNvSpPr txBox="1"/>
                <p:nvPr/>
              </p:nvSpPr>
              <p:spPr>
                <a:xfrm>
                  <a:off x="1619280" y="5946480"/>
                  <a:ext cx="117792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0" name="PSText"/>
            <p:cNvSpPr/>
            <p:nvPr/>
          </p:nvSpPr>
          <p:spPr>
            <a:xfrm>
              <a:off x="1619280" y="5565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PSArrow"/>
            <p:cNvSpPr/>
            <p:nvPr/>
          </p:nvSpPr>
          <p:spPr>
            <a:xfrm>
              <a:off x="1428840" y="5819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Picture Choice 5"/>
          <p:cNvGrpSpPr/>
          <p:nvPr/>
        </p:nvGrpSpPr>
        <p:grpSpPr>
          <a:xfrm>
            <a:off x="2928960" y="5749920"/>
            <a:ext cx="3048120" cy="962280"/>
            <a:chOff x="2928960" y="5749920"/>
            <a:chExt cx="3048120" cy="962280"/>
          </a:xfrm>
        </p:grpSpPr>
        <p:sp>
          <p:nvSpPr>
            <p:cNvPr id="633" name="PSPic"/>
            <p:cNvSpPr/>
            <p:nvPr/>
          </p:nvSpPr>
          <p:spPr>
            <a:xfrm>
              <a:off x="3119400" y="6130800"/>
              <a:ext cx="28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PSText"/>
            <p:cNvSpPr/>
            <p:nvPr/>
          </p:nvSpPr>
          <p:spPr>
            <a:xfrm>
              <a:off x="3119400" y="5749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PSArrow"/>
            <p:cNvSpPr/>
            <p:nvPr/>
          </p:nvSpPr>
          <p:spPr>
            <a:xfrm>
              <a:off x="2928960" y="6003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CorShape1"/>
          <p:cNvSpPr/>
          <p:nvPr/>
        </p:nvSpPr>
        <p:spPr>
          <a:xfrm rot="10800000">
            <a:off x="2000160" y="5572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written 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4508640" y="2071800"/>
          <a:ext cx="45720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71800"/>
                    <a:ext cx="4572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46120" y="0"/>
                <a:ext cx="30970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928960" y="928800"/>
                <a:ext cx="32940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4114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rShape1"/>
          <p:cNvSpPr/>
          <p:nvPr/>
        </p:nvSpPr>
        <p:spPr>
          <a:xfrm rot="10800000">
            <a:off x="172800" y="31636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physical quantity does the surface integral                  represent if </a:t>
            </a:r>
            <a:br>
              <a:rPr sz="40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 y)=1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5500800" y="1650960"/>
          <a:ext cx="35798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1650960"/>
                    <a:ext cx="35798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929040" y="571680"/>
                <a:ext cx="22255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5043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mass of a plane lamina of ar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moment of inertia of the lam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area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rShape1"/>
          <p:cNvSpPr/>
          <p:nvPr/>
        </p:nvSpPr>
        <p:spPr>
          <a:xfrm rot="10800000">
            <a:off x="142920" y="5857920"/>
            <a:ext cx="357120" cy="3571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physical quantity does the surface integral                  represent if </a:t>
            </a:r>
            <a:br>
              <a:rPr sz="40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 y)=y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5500800" y="1650960"/>
          <a:ext cx="35798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1650960"/>
                    <a:ext cx="35798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929040" y="571680"/>
                <a:ext cx="22255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5043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mass of a plane lamina of ar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moment of inertia of the lam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area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rShape1"/>
          <p:cNvSpPr/>
          <p:nvPr/>
        </p:nvSpPr>
        <p:spPr>
          <a:xfrm rot="10800000">
            <a:off x="142920" y="3857760"/>
            <a:ext cx="357120" cy="3571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physical quantity does the surface integral                  represent if </a:t>
            </a:r>
            <a:br>
              <a:rPr sz="40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 y)=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5500800" y="1650960"/>
          <a:ext cx="35798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1650960"/>
                    <a:ext cx="35798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929040" y="571680"/>
                <a:ext cx="22255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5043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mass of a plane lamina of ar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moment of inertia of the lam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represents the area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rShape1"/>
          <p:cNvSpPr/>
          <p:nvPr/>
        </p:nvSpPr>
        <p:spPr>
          <a:xfrm rot="10800000">
            <a:off x="142920" y="2286000"/>
            <a:ext cx="357120" cy="3571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change the order of integration, which will remain unchan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rShape1"/>
          <p:cNvSpPr/>
          <p:nvPr/>
        </p:nvSpPr>
        <p:spPr>
          <a:xfrm rot="10800000">
            <a:off x="172800" y="2235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       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3929040" y="142920"/>
                <a:ext cx="33577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y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rShape1"/>
          <p:cNvSpPr/>
          <p:nvPr/>
        </p:nvSpPr>
        <p:spPr>
          <a:xfrm rot="10800000">
            <a:off x="172800" y="225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8T12:19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