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F34-718D-448E-A51A-D92EDDA6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E14-CFFE-45A7-9221-36A6E11C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708-1BB0-4D48-9686-94288C82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520-0948-43AA-BBAE-7CF0B54A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2A7-2ABC-4083-AB5B-858B2700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800-8563-4834-9244-80D451A9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7AC-203B-419E-AD05-12EEAF69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405-A1CD-4D06-A7C6-D2A053F2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8F6-A398-4D9B-B7E4-352AB62D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850-DBBA-4EC4-846D-F89F14D3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F09-F8D5-46B5-B187-76645FE2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6EF-DF4E-4ECB-86F7-409698D0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5563-7220-4F00-9C1D-64D24A964E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GB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cates a stationary point of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ich of the following implies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GB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a local maxim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7120" y="2143080"/>
            <a:ext cx="41148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Picture Choice 1"/>
          <p:cNvGrpSpPr/>
          <p:nvPr/>
        </p:nvGrpSpPr>
        <p:grpSpPr>
          <a:xfrm>
            <a:off x="571680" y="1928880"/>
            <a:ext cx="1830240" cy="1595520"/>
            <a:chOff x="571680" y="1928880"/>
            <a:chExt cx="1830240" cy="1595520"/>
          </a:xfrm>
        </p:grpSpPr>
        <mc:AlternateContent>
          <mc:Choice xmlns:a14="http://schemas.microsoft.com/office/drawing/2010/main" Requires="a14">
            <p:sp>
              <p:nvSpPr>
                <p:cNvPr id="46" name="PSPic"/>
                <p:cNvSpPr txBox="1"/>
                <p:nvPr/>
              </p:nvSpPr>
              <p:spPr>
                <a:xfrm>
                  <a:off x="762120" y="2309760"/>
                  <a:ext cx="1639800" cy="121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f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" name="PSText"/>
            <p:cNvSpPr/>
            <p:nvPr/>
          </p:nvSpPr>
          <p:spPr>
            <a:xfrm>
              <a:off x="762120" y="1928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PSArrow"/>
            <p:cNvSpPr/>
            <p:nvPr/>
          </p:nvSpPr>
          <p:spPr>
            <a:xfrm>
              <a:off x="571680" y="2182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7"/>
                  </a:lnTo>
                  <a:arcTo wR="21600" hR="9282" stAng="10800000" swAng="-3539943"/>
                  <a:lnTo>
                    <a:pt x="16200" y="21305"/>
                  </a:lnTo>
                  <a:lnTo>
                    <a:pt x="21600" y="19576"/>
                  </a:lnTo>
                  <a:lnTo>
                    <a:pt x="16200" y="17256"/>
                  </a:lnTo>
                  <a:lnTo>
                    <a:pt x="16200" y="18268"/>
                  </a:lnTo>
                  <a:arcTo wR="21600" hR="9282" stAng="7260057" swAng="3377952"/>
                  <a:lnTo>
                    <a:pt x="129" y="10294"/>
                  </a:lnTo>
                  <a:arcTo wR="21600" hR="9282" stAng="-10638008" swAng="5238008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92"/>
                  <a:lnTo>
                    <a:pt x="129" y="10294"/>
                  </a:lnTo>
                  <a:arcTo wR="21600" hR="9282" stAng="-10638008" swAng="5238008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Picture Choice 2"/>
          <p:cNvGrpSpPr/>
          <p:nvPr/>
        </p:nvGrpSpPr>
        <p:grpSpPr>
          <a:xfrm>
            <a:off x="2428920" y="3429000"/>
            <a:ext cx="1830240" cy="1595520"/>
            <a:chOff x="2428920" y="3429000"/>
            <a:chExt cx="1830240" cy="1595520"/>
          </a:xfrm>
        </p:grpSpPr>
        <mc:AlternateContent>
          <mc:Choice xmlns:a14="http://schemas.microsoft.com/office/drawing/2010/main" Requires="a14">
            <p:sp>
              <p:nvSpPr>
                <p:cNvPr id="50" name="Object 10"/>
                <p:cNvSpPr txBox="1"/>
                <p:nvPr/>
              </p:nvSpPr>
              <p:spPr>
                <a:xfrm>
                  <a:off x="2619360" y="3809880"/>
                  <a:ext cx="1639800" cy="121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f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</m:sSub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PSText"/>
            <p:cNvSpPr/>
            <p:nvPr/>
          </p:nvSpPr>
          <p:spPr>
            <a:xfrm>
              <a:off x="2619360" y="3429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PSArrow"/>
            <p:cNvSpPr/>
            <p:nvPr/>
          </p:nvSpPr>
          <p:spPr>
            <a:xfrm>
              <a:off x="2428920" y="3682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Picture Choice 3"/>
          <p:cNvGrpSpPr/>
          <p:nvPr/>
        </p:nvGrpSpPr>
        <p:grpSpPr>
          <a:xfrm>
            <a:off x="642960" y="4857840"/>
            <a:ext cx="1830240" cy="1595520"/>
            <a:chOff x="642960" y="4857840"/>
            <a:chExt cx="1830240" cy="1595520"/>
          </a:xfrm>
        </p:grpSpPr>
        <mc:AlternateContent>
          <mc:Choice xmlns:a14="http://schemas.microsoft.com/office/drawing/2010/main" Requires="a14">
            <p:sp>
              <p:nvSpPr>
                <p:cNvPr id="54" name="Object 14"/>
                <p:cNvSpPr txBox="1"/>
                <p:nvPr/>
              </p:nvSpPr>
              <p:spPr>
                <a:xfrm>
                  <a:off x="833400" y="5238720"/>
                  <a:ext cx="1639800" cy="121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f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PSText"/>
            <p:cNvSpPr/>
            <p:nvPr/>
          </p:nvSpPr>
          <p:spPr>
            <a:xfrm>
              <a:off x="833400" y="4857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SArrow"/>
            <p:cNvSpPr/>
            <p:nvPr/>
          </p:nvSpPr>
          <p:spPr>
            <a:xfrm>
              <a:off x="642960" y="5111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rShape1"/>
          <p:cNvSpPr/>
          <p:nvPr/>
        </p:nvSpPr>
        <p:spPr>
          <a:xfrm rot="10800000">
            <a:off x="2000160" y="3643200"/>
            <a:ext cx="355680" cy="355680"/>
          </a:xfrm>
          <a:custGeom>
            <a:avLst/>
            <a:gdLst>
              <a:gd name="textAreaLeft" fmla="*/ 0 w 355680"/>
              <a:gd name="textAreaRight" fmla="*/ 356040 w 355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t³</a:t>
            </a: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5t</a:t>
            </a: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t²</a:t>
            </a: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, 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6643800" y="190440"/>
                <a:ext cx="10713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500200"/>
            <a:ext cx="41148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t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6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t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6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t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6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t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5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6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orShape1"/>
          <p:cNvSpPr/>
          <p:nvPr/>
        </p:nvSpPr>
        <p:spPr>
          <a:xfrm rot="10800000">
            <a:off x="172800" y="2663640"/>
            <a:ext cx="355320" cy="35532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1680" y="274320"/>
            <a:ext cx="361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pres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000080" y="214200"/>
                <a:ext cx="436248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bar>
                      <m:barPr>
                        <m:pos m:val="bot"/>
                      </m:barPr>
                      <m:e>
                        <m:r>
                          <m:t xml:space="preserve">j</m:t>
                        </m:r>
                      </m:e>
                    </m:ba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ector of a particle at a point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elocity of a particle at a point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eed of a particle at a point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cceleration of a particle at a point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rShape1"/>
          <p:cNvSpPr/>
          <p:nvPr/>
        </p:nvSpPr>
        <p:spPr>
          <a:xfrm rot="10800000">
            <a:off x="0" y="2786040"/>
            <a:ext cx="417600" cy="520560"/>
          </a:xfrm>
          <a:custGeom>
            <a:avLst/>
            <a:gdLst>
              <a:gd name="textAreaLeft" fmla="*/ 0 w 417600"/>
              <a:gd name="textAreaRight" fmla="*/ 417960 w 4176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two straight lines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y=mx+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y=nx+d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are perpendicular the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mn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114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rShape1"/>
          <p:cNvSpPr/>
          <p:nvPr/>
        </p:nvSpPr>
        <p:spPr>
          <a:xfrm rot="10800000">
            <a:off x="223560" y="24192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pairs of lines are perpendicu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Picture Choice 1"/>
          <p:cNvGrpSpPr/>
          <p:nvPr/>
        </p:nvGrpSpPr>
        <p:grpSpPr>
          <a:xfrm>
            <a:off x="179280" y="1413000"/>
            <a:ext cx="4440240" cy="987480"/>
            <a:chOff x="179280" y="1413000"/>
            <a:chExt cx="4440240" cy="987480"/>
          </a:xfrm>
        </p:grpSpPr>
        <mc:AlternateContent>
          <mc:Choice xmlns:a14="http://schemas.microsoft.com/office/drawing/2010/main" Requires="a14">
            <p:sp>
              <p:nvSpPr>
                <p:cNvPr id="155" name="PSPic"/>
                <p:cNvSpPr txBox="1"/>
                <p:nvPr/>
              </p:nvSpPr>
              <p:spPr>
                <a:xfrm>
                  <a:off x="369720" y="1793880"/>
                  <a:ext cx="42498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PSText"/>
            <p:cNvSpPr/>
            <p:nvPr/>
          </p:nvSpPr>
          <p:spPr>
            <a:xfrm>
              <a:off x="369720" y="1413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SArrow"/>
            <p:cNvSpPr/>
            <p:nvPr/>
          </p:nvSpPr>
          <p:spPr>
            <a:xfrm>
              <a:off x="179280" y="166680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8320"/>
                <a:gd name="textAreaBottom" fmla="*/ 36864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Picture Choice 2"/>
          <p:cNvGrpSpPr/>
          <p:nvPr/>
        </p:nvGrpSpPr>
        <p:grpSpPr>
          <a:xfrm>
            <a:off x="179280" y="2349360"/>
            <a:ext cx="4727160" cy="1344600"/>
            <a:chOff x="179280" y="2349360"/>
            <a:chExt cx="4727160" cy="1344600"/>
          </a:xfrm>
        </p:grpSpPr>
        <mc:AlternateContent>
          <mc:Choice xmlns:a14="http://schemas.microsoft.com/office/drawing/2010/main" Requires="a14">
            <p:sp>
              <p:nvSpPr>
                <p:cNvPr id="159" name="PSPic"/>
                <p:cNvSpPr txBox="1"/>
                <p:nvPr/>
              </p:nvSpPr>
              <p:spPr>
                <a:xfrm>
                  <a:off x="369720" y="2730240"/>
                  <a:ext cx="4536720" cy="96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PSText"/>
            <p:cNvSpPr/>
            <p:nvPr/>
          </p:nvSpPr>
          <p:spPr>
            <a:xfrm>
              <a:off x="369720" y="2349360"/>
              <a:ext cx="634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PSArrow"/>
            <p:cNvSpPr/>
            <p:nvPr/>
          </p:nvSpPr>
          <p:spPr>
            <a:xfrm>
              <a:off x="179280" y="2603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Picture Choice 3"/>
          <p:cNvGrpSpPr/>
          <p:nvPr/>
        </p:nvGrpSpPr>
        <p:grpSpPr>
          <a:xfrm>
            <a:off x="179280" y="3500280"/>
            <a:ext cx="4186080" cy="1326960"/>
            <a:chOff x="179280" y="3500280"/>
            <a:chExt cx="4186080" cy="1326960"/>
          </a:xfrm>
        </p:grpSpPr>
        <mc:AlternateContent>
          <mc:Choice xmlns:a14="http://schemas.microsoft.com/office/drawing/2010/main" Requires="a14">
            <p:sp>
              <p:nvSpPr>
                <p:cNvPr id="163" name="PSPic"/>
                <p:cNvSpPr txBox="1"/>
                <p:nvPr/>
              </p:nvSpPr>
              <p:spPr>
                <a:xfrm>
                  <a:off x="369720" y="3881160"/>
                  <a:ext cx="399564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PSText"/>
            <p:cNvSpPr/>
            <p:nvPr/>
          </p:nvSpPr>
          <p:spPr>
            <a:xfrm>
              <a:off x="369720" y="3500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SArrow"/>
            <p:cNvSpPr/>
            <p:nvPr/>
          </p:nvSpPr>
          <p:spPr>
            <a:xfrm>
              <a:off x="179280" y="3754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Picture Choice 4"/>
          <p:cNvGrpSpPr/>
          <p:nvPr/>
        </p:nvGrpSpPr>
        <p:grpSpPr>
          <a:xfrm>
            <a:off x="179280" y="4581360"/>
            <a:ext cx="4510080" cy="900000"/>
            <a:chOff x="179280" y="4581360"/>
            <a:chExt cx="4510080" cy="900000"/>
          </a:xfrm>
        </p:grpSpPr>
        <mc:AlternateContent>
          <mc:Choice xmlns:a14="http://schemas.microsoft.com/office/drawing/2010/main" Requires="a14">
            <p:sp>
              <p:nvSpPr>
                <p:cNvPr id="167" name="PSPic"/>
                <p:cNvSpPr txBox="1"/>
                <p:nvPr/>
              </p:nvSpPr>
              <p:spPr>
                <a:xfrm>
                  <a:off x="369720" y="4962240"/>
                  <a:ext cx="431964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PSText"/>
            <p:cNvSpPr/>
            <p:nvPr/>
          </p:nvSpPr>
          <p:spPr>
            <a:xfrm>
              <a:off x="369720" y="45813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SArrow"/>
            <p:cNvSpPr/>
            <p:nvPr/>
          </p:nvSpPr>
          <p:spPr>
            <a:xfrm>
              <a:off x="179280" y="4835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Picture Choice 5"/>
          <p:cNvGrpSpPr/>
          <p:nvPr/>
        </p:nvGrpSpPr>
        <p:grpSpPr>
          <a:xfrm>
            <a:off x="179280" y="5562720"/>
            <a:ext cx="4372200" cy="1251000"/>
            <a:chOff x="179280" y="5562720"/>
            <a:chExt cx="4372200" cy="1251000"/>
          </a:xfrm>
        </p:grpSpPr>
        <mc:AlternateContent>
          <mc:Choice xmlns:a14="http://schemas.microsoft.com/office/drawing/2010/main" Requires="a14">
            <p:sp>
              <p:nvSpPr>
                <p:cNvPr id="171" name="PSPic"/>
                <p:cNvSpPr txBox="1"/>
                <p:nvPr/>
              </p:nvSpPr>
              <p:spPr>
                <a:xfrm>
                  <a:off x="369720" y="5943600"/>
                  <a:ext cx="4181760" cy="87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PSText"/>
            <p:cNvSpPr/>
            <p:nvPr/>
          </p:nvSpPr>
          <p:spPr>
            <a:xfrm>
              <a:off x="369720" y="5562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PSArrow"/>
            <p:cNvSpPr/>
            <p:nvPr/>
          </p:nvSpPr>
          <p:spPr>
            <a:xfrm>
              <a:off x="179280" y="5816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CorShape1"/>
          <p:cNvSpPr/>
          <p:nvPr/>
        </p:nvSpPr>
        <p:spPr>
          <a:xfrm rot="10800000">
            <a:off x="755280" y="46526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orShape1"/>
          <p:cNvSpPr/>
          <p:nvPr/>
        </p:nvSpPr>
        <p:spPr>
          <a:xfrm rot="10800000">
            <a:off x="755280" y="55893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equation of the normal line to the curv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Picture Choice 1"/>
          <p:cNvGrpSpPr/>
          <p:nvPr/>
        </p:nvGrpSpPr>
        <p:grpSpPr>
          <a:xfrm>
            <a:off x="250920" y="1217520"/>
            <a:ext cx="2833560" cy="1136880"/>
            <a:chOff x="250920" y="1217520"/>
            <a:chExt cx="2833560" cy="1136880"/>
          </a:xfrm>
        </p:grpSpPr>
        <mc:AlternateContent>
          <mc:Choice xmlns:a14="http://schemas.microsoft.com/office/drawing/2010/main" Requires="a14">
            <p:sp>
              <p:nvSpPr>
                <p:cNvPr id="181" name="PSPic"/>
                <p:cNvSpPr txBox="1"/>
                <p:nvPr/>
              </p:nvSpPr>
              <p:spPr>
                <a:xfrm>
                  <a:off x="676440" y="1598760"/>
                  <a:ext cx="240804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2" name="PSText"/>
            <p:cNvSpPr/>
            <p:nvPr/>
          </p:nvSpPr>
          <p:spPr>
            <a:xfrm>
              <a:off x="441360" y="121752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PSArrow"/>
            <p:cNvSpPr/>
            <p:nvPr/>
          </p:nvSpPr>
          <p:spPr>
            <a:xfrm>
              <a:off x="250920" y="1471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Picture Choice 2"/>
          <p:cNvGrpSpPr/>
          <p:nvPr/>
        </p:nvGrpSpPr>
        <p:grpSpPr>
          <a:xfrm>
            <a:off x="250920" y="2349360"/>
            <a:ext cx="3511440" cy="1655640"/>
            <a:chOff x="250920" y="2349360"/>
            <a:chExt cx="3511440" cy="1655640"/>
          </a:xfrm>
        </p:grpSpPr>
        <mc:AlternateContent>
          <mc:Choice xmlns:a14="http://schemas.microsoft.com/office/drawing/2010/main" Requires="a14">
            <p:sp>
              <p:nvSpPr>
                <p:cNvPr id="185" name="PSPic"/>
                <p:cNvSpPr txBox="1"/>
                <p:nvPr/>
              </p:nvSpPr>
              <p:spPr>
                <a:xfrm>
                  <a:off x="831960" y="2725920"/>
                  <a:ext cx="2930400" cy="127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87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PSText"/>
            <p:cNvSpPr/>
            <p:nvPr/>
          </p:nvSpPr>
          <p:spPr>
            <a:xfrm>
              <a:off x="441360" y="2349360"/>
              <a:ext cx="63504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PSArrow"/>
            <p:cNvSpPr/>
            <p:nvPr/>
          </p:nvSpPr>
          <p:spPr>
            <a:xfrm>
              <a:off x="250920" y="2600280"/>
              <a:ext cx="190440" cy="50184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7840 h 501840"/>
                <a:gd name="textAreaBottom" fmla="*/ 363960 h 50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Picture Choice 3"/>
          <p:cNvGrpSpPr/>
          <p:nvPr/>
        </p:nvGrpSpPr>
        <p:grpSpPr>
          <a:xfrm>
            <a:off x="250920" y="4076640"/>
            <a:ext cx="3085920" cy="1223640"/>
            <a:chOff x="250920" y="4076640"/>
            <a:chExt cx="3085920" cy="1223640"/>
          </a:xfrm>
        </p:grpSpPr>
        <mc:AlternateContent>
          <mc:Choice xmlns:a14="http://schemas.microsoft.com/office/drawing/2010/main" Requires="a14">
            <p:sp>
              <p:nvSpPr>
                <p:cNvPr id="189" name="PSPic"/>
                <p:cNvSpPr txBox="1"/>
                <p:nvPr/>
              </p:nvSpPr>
              <p:spPr>
                <a:xfrm>
                  <a:off x="250920" y="4085280"/>
                  <a:ext cx="3085920" cy="121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PSText"/>
            <p:cNvSpPr/>
            <p:nvPr/>
          </p:nvSpPr>
          <p:spPr>
            <a:xfrm>
              <a:off x="668520" y="4076640"/>
              <a:ext cx="5662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PSArrow"/>
            <p:cNvSpPr/>
            <p:nvPr/>
          </p:nvSpPr>
          <p:spPr>
            <a:xfrm>
              <a:off x="498600" y="4278240"/>
              <a:ext cx="169560" cy="402840"/>
            </a:xfrm>
            <a:custGeom>
              <a:avLst/>
              <a:gdLst>
                <a:gd name="textAreaLeft" fmla="*/ 22680 w 169560"/>
                <a:gd name="textAreaRight" fmla="*/ 146880 w 169560"/>
                <a:gd name="textAreaTop" fmla="*/ 70560 h 402840"/>
                <a:gd name="textAreaBottom" fmla="*/ 292320 h 40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Picture Choice 4"/>
          <p:cNvGrpSpPr/>
          <p:nvPr/>
        </p:nvGrpSpPr>
        <p:grpSpPr>
          <a:xfrm>
            <a:off x="250920" y="5084640"/>
            <a:ext cx="3424320" cy="1406520"/>
            <a:chOff x="250920" y="5084640"/>
            <a:chExt cx="3424320" cy="1406520"/>
          </a:xfrm>
        </p:grpSpPr>
        <mc:AlternateContent>
          <mc:Choice xmlns:a14="http://schemas.microsoft.com/office/drawing/2010/main" Requires="a14">
            <p:sp>
              <p:nvSpPr>
                <p:cNvPr id="193" name="PSPic"/>
                <p:cNvSpPr txBox="1"/>
                <p:nvPr/>
              </p:nvSpPr>
              <p:spPr>
                <a:xfrm>
                  <a:off x="878040" y="5792760"/>
                  <a:ext cx="27972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PSText"/>
            <p:cNvSpPr/>
            <p:nvPr/>
          </p:nvSpPr>
          <p:spPr>
            <a:xfrm>
              <a:off x="441360" y="508464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PSArrow"/>
            <p:cNvSpPr/>
            <p:nvPr/>
          </p:nvSpPr>
          <p:spPr>
            <a:xfrm>
              <a:off x="250920" y="5338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CorShape1"/>
          <p:cNvSpPr/>
          <p:nvPr/>
        </p:nvSpPr>
        <p:spPr>
          <a:xfrm rot="10800000">
            <a:off x="755280" y="26366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curvatur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i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rShape1"/>
          <p:cNvSpPr/>
          <p:nvPr/>
        </p:nvSpPr>
        <p:spPr>
          <a:xfrm rot="10800000">
            <a:off x="107640" y="242712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Picture Choice 1"/>
          <p:cNvGrpSpPr/>
          <p:nvPr/>
        </p:nvGrpSpPr>
        <p:grpSpPr>
          <a:xfrm>
            <a:off x="1862280" y="1193760"/>
            <a:ext cx="2638440" cy="1587600"/>
            <a:chOff x="1862280" y="1193760"/>
            <a:chExt cx="2638440" cy="1587600"/>
          </a:xfrm>
        </p:grpSpPr>
        <mc:AlternateContent>
          <mc:Choice xmlns:a14="http://schemas.microsoft.com/office/drawing/2010/main" Requires="a14">
            <p:sp>
              <p:nvSpPr>
                <p:cNvPr id="203" name="PSPic"/>
                <p:cNvSpPr txBox="1"/>
                <p:nvPr/>
              </p:nvSpPr>
              <p:spPr>
                <a:xfrm>
                  <a:off x="2053080" y="1574640"/>
                  <a:ext cx="244764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PSText"/>
            <p:cNvSpPr/>
            <p:nvPr/>
          </p:nvSpPr>
          <p:spPr>
            <a:xfrm>
              <a:off x="2053080" y="1193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SArrow"/>
            <p:cNvSpPr/>
            <p:nvPr/>
          </p:nvSpPr>
          <p:spPr>
            <a:xfrm>
              <a:off x="1862280" y="1447920"/>
              <a:ext cx="190800" cy="507960"/>
            </a:xfrm>
            <a:custGeom>
              <a:avLst/>
              <a:gdLst>
                <a:gd name="textAreaLeft" fmla="*/ 25560 w 190800"/>
                <a:gd name="textAreaRight" fmla="*/ 165240 w 19080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Picture Choice 2"/>
          <p:cNvGrpSpPr/>
          <p:nvPr/>
        </p:nvGrpSpPr>
        <p:grpSpPr>
          <a:xfrm>
            <a:off x="324000" y="2368440"/>
            <a:ext cx="3603600" cy="1565280"/>
            <a:chOff x="324000" y="2368440"/>
            <a:chExt cx="3603600" cy="1565280"/>
          </a:xfrm>
        </p:grpSpPr>
        <mc:AlternateContent>
          <mc:Choice xmlns:a14="http://schemas.microsoft.com/office/drawing/2010/main" Requires="a14">
            <p:sp>
              <p:nvSpPr>
                <p:cNvPr id="207" name="PSPic"/>
                <p:cNvSpPr txBox="1"/>
                <p:nvPr/>
              </p:nvSpPr>
              <p:spPr>
                <a:xfrm>
                  <a:off x="514440" y="2749680"/>
                  <a:ext cx="3413160" cy="11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PSText"/>
            <p:cNvSpPr/>
            <p:nvPr/>
          </p:nvSpPr>
          <p:spPr>
            <a:xfrm>
              <a:off x="514440" y="236844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PSArrow"/>
            <p:cNvSpPr/>
            <p:nvPr/>
          </p:nvSpPr>
          <p:spPr>
            <a:xfrm>
              <a:off x="324000" y="2622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Picture Choice 3"/>
          <p:cNvGrpSpPr/>
          <p:nvPr/>
        </p:nvGrpSpPr>
        <p:grpSpPr>
          <a:xfrm>
            <a:off x="1284120" y="4011480"/>
            <a:ext cx="3575160" cy="1577880"/>
            <a:chOff x="1284120" y="4011480"/>
            <a:chExt cx="3575160" cy="1577880"/>
          </a:xfrm>
        </p:grpSpPr>
        <mc:AlternateContent>
          <mc:Choice xmlns:a14="http://schemas.microsoft.com/office/drawing/2010/main" Requires="a14">
            <p:sp>
              <p:nvSpPr>
                <p:cNvPr id="211" name="PSPic"/>
                <p:cNvSpPr txBox="1"/>
                <p:nvPr/>
              </p:nvSpPr>
              <p:spPr>
                <a:xfrm>
                  <a:off x="1474560" y="4392360"/>
                  <a:ext cx="3384720" cy="11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PSText"/>
            <p:cNvSpPr/>
            <p:nvPr/>
          </p:nvSpPr>
          <p:spPr>
            <a:xfrm>
              <a:off x="1474560" y="40114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PSArrow"/>
            <p:cNvSpPr/>
            <p:nvPr/>
          </p:nvSpPr>
          <p:spPr>
            <a:xfrm>
              <a:off x="1284120" y="4265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Picture Choice 4"/>
          <p:cNvGrpSpPr/>
          <p:nvPr/>
        </p:nvGrpSpPr>
        <p:grpSpPr>
          <a:xfrm>
            <a:off x="395280" y="5208480"/>
            <a:ext cx="3646440" cy="1604880"/>
            <a:chOff x="395280" y="5208480"/>
            <a:chExt cx="3646440" cy="1604880"/>
          </a:xfrm>
        </p:grpSpPr>
        <mc:AlternateContent>
          <mc:Choice xmlns:a14="http://schemas.microsoft.com/office/drawing/2010/main" Requires="a14">
            <p:sp>
              <p:nvSpPr>
                <p:cNvPr id="215" name="PSPic"/>
                <p:cNvSpPr txBox="1"/>
                <p:nvPr/>
              </p:nvSpPr>
              <p:spPr>
                <a:xfrm>
                  <a:off x="585720" y="5589360"/>
                  <a:ext cx="345600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6" name="PSText"/>
            <p:cNvSpPr/>
            <p:nvPr/>
          </p:nvSpPr>
          <p:spPr>
            <a:xfrm>
              <a:off x="585720" y="52084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PSArrow"/>
            <p:cNvSpPr/>
            <p:nvPr/>
          </p:nvSpPr>
          <p:spPr>
            <a:xfrm>
              <a:off x="395280" y="546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stationary points of </a:t>
            </a:r>
            <a:br>
              <a:rPr sz="3600"/>
            </a:br>
            <a:r>
              <a:rPr b="0" i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2x² - 8x +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 the local minimum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4" name="Object 27"/>
              <p:cNvSpPr txBox="1"/>
              <p:nvPr/>
            </p:nvSpPr>
            <p:spPr>
              <a:xfrm>
                <a:off x="2714760" y="928800"/>
                <a:ext cx="36446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x-coordinate of a maxima on the graph be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357120" y="642960"/>
            <a:ext cx="3000600" cy="31827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5200" y="3857760"/>
            <a:ext cx="32860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0.6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0.3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6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0" y="65008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hn Goodband, Coventry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rShape1"/>
          <p:cNvSpPr/>
          <p:nvPr/>
        </p:nvSpPr>
        <p:spPr>
          <a:xfrm rot="10800000">
            <a:off x="76320" y="403812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956280" y="0"/>
            <a:ext cx="2187720" cy="2781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94836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can you say about the functio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on the interval [a,b] by inspection of the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2492280"/>
          <a:ext cx="4271760" cy="43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2492280"/>
                    <a:ext cx="427176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7236000" y="1094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114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as a local maximum at x=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as local minimum at x=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as a global minimum at x=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as a global maximum at x=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rShape1"/>
          <p:cNvSpPr/>
          <p:nvPr/>
        </p:nvSpPr>
        <p:spPr>
          <a:xfrm rot="10800000">
            <a:off x="108000" y="3517560"/>
            <a:ext cx="395280" cy="415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rShape2"/>
          <p:cNvSpPr/>
          <p:nvPr/>
        </p:nvSpPr>
        <p:spPr>
          <a:xfrm rot="10800000">
            <a:off x="108000" y="4589280"/>
            <a:ext cx="395280" cy="4237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rShape3"/>
          <p:cNvSpPr/>
          <p:nvPr/>
        </p:nvSpPr>
        <p:spPr>
          <a:xfrm rot="10800000">
            <a:off x="108000" y="5661000"/>
            <a:ext cx="395280" cy="4320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the graph of the curve,  approximately where are the stationary points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2349360"/>
          <a:ext cx="4572000" cy="44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349360"/>
                    <a:ext cx="457200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2467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114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1.9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2.7,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0.8,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0.1, 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.4,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rShape1"/>
          <p:cNvSpPr/>
          <p:nvPr/>
        </p:nvSpPr>
        <p:spPr>
          <a:xfrm rot="10800000">
            <a:off x="234720" y="24192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rShape2"/>
          <p:cNvSpPr/>
          <p:nvPr/>
        </p:nvSpPr>
        <p:spPr>
          <a:xfrm rot="10800000">
            <a:off x="234720" y="41716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t</a:t>
            </a: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in2t</a:t>
            </a: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then 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TPChart"/>
          <p:cNvGraphicFramePr/>
          <p:nvPr/>
        </p:nvGraphicFramePr>
        <p:xfrm>
          <a:off x="4572000" y="19288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288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7072200" y="285840"/>
                <a:ext cx="7444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4114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t + sin2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+ 2sin2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cos2t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2cos2t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rShape1"/>
          <p:cNvSpPr/>
          <p:nvPr/>
        </p:nvSpPr>
        <p:spPr>
          <a:xfrm rot="10800000">
            <a:off x="172800" y="403704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t³</a:t>
            </a: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ost</a:t>
            </a: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, 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6429240" y="285840"/>
                <a:ext cx="85752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r</m:t>
                                </m:r>
                              </m:e>
                            </m:ba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Picture Choice 1"/>
          <p:cNvGrpSpPr/>
          <p:nvPr/>
        </p:nvGrpSpPr>
        <p:grpSpPr>
          <a:xfrm>
            <a:off x="500040" y="1714680"/>
            <a:ext cx="2165400" cy="1008000"/>
            <a:chOff x="500040" y="1714680"/>
            <a:chExt cx="2165400" cy="1008000"/>
          </a:xfrm>
        </p:grpSpPr>
        <mc:AlternateContent>
          <mc:Choice xmlns:a14="http://schemas.microsoft.com/office/drawing/2010/main" Requires="a14">
            <p:sp>
              <p:nvSpPr>
                <p:cNvPr id="100" name="PSPic"/>
                <p:cNvSpPr txBox="1"/>
                <p:nvPr/>
              </p:nvSpPr>
              <p:spPr>
                <a:xfrm>
                  <a:off x="690480" y="2095560"/>
                  <a:ext cx="197496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9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t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PSText"/>
            <p:cNvSpPr/>
            <p:nvPr/>
          </p:nvSpPr>
          <p:spPr>
            <a:xfrm>
              <a:off x="690480" y="17146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SArrow"/>
            <p:cNvSpPr/>
            <p:nvPr/>
          </p:nvSpPr>
          <p:spPr>
            <a:xfrm>
              <a:off x="500040" y="1968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6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4"/>
                  </a:lnTo>
                  <a:lnTo>
                    <a:pt x="16200" y="18267"/>
                  </a:lnTo>
                  <a:arcTo wR="21600" hR="9281" stAng="7260138" swAng="3377870"/>
                  <a:lnTo>
                    <a:pt x="129" y="10294"/>
                  </a:lnTo>
                  <a:arcTo wR="21600" hR="9281" stAng="-10638008" swAng="5238008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1992"/>
                  <a:lnTo>
                    <a:pt x="129" y="10294"/>
                  </a:lnTo>
                  <a:arcTo wR="21600" hR="9281" stAng="-10638008" swAng="5238008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Picture Choice 2"/>
          <p:cNvGrpSpPr/>
          <p:nvPr/>
        </p:nvGrpSpPr>
        <p:grpSpPr>
          <a:xfrm>
            <a:off x="2428920" y="2857680"/>
            <a:ext cx="2165400" cy="1008000"/>
            <a:chOff x="2428920" y="2857680"/>
            <a:chExt cx="2165400" cy="1008000"/>
          </a:xfrm>
        </p:grpSpPr>
        <mc:AlternateContent>
          <mc:Choice xmlns:a14="http://schemas.microsoft.com/office/drawing/2010/main" Requires="a14">
            <p:sp>
              <p:nvSpPr>
                <p:cNvPr id="104" name="Object 11"/>
                <p:cNvSpPr txBox="1"/>
                <p:nvPr/>
              </p:nvSpPr>
              <p:spPr>
                <a:xfrm>
                  <a:off x="2619360" y="3238560"/>
                  <a:ext cx="197496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6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05" name="PSText"/>
            <p:cNvSpPr/>
            <p:nvPr/>
          </p:nvSpPr>
          <p:spPr>
            <a:xfrm>
              <a:off x="2619360" y="2857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SArrow"/>
            <p:cNvSpPr/>
            <p:nvPr/>
          </p:nvSpPr>
          <p:spPr>
            <a:xfrm>
              <a:off x="2428920" y="3111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Picture Choice 3"/>
          <p:cNvGrpSpPr/>
          <p:nvPr/>
        </p:nvGrpSpPr>
        <p:grpSpPr>
          <a:xfrm>
            <a:off x="500040" y="3857760"/>
            <a:ext cx="2165400" cy="1008000"/>
            <a:chOff x="500040" y="3857760"/>
            <a:chExt cx="2165400" cy="1008000"/>
          </a:xfrm>
        </p:grpSpPr>
        <mc:AlternateContent>
          <mc:Choice xmlns:a14="http://schemas.microsoft.com/office/drawing/2010/main" Requires="a14">
            <p:sp>
              <p:nvSpPr>
                <p:cNvPr id="108" name="Object 15"/>
                <p:cNvSpPr txBox="1"/>
                <p:nvPr/>
              </p:nvSpPr>
              <p:spPr>
                <a:xfrm>
                  <a:off x="690480" y="4238640"/>
                  <a:ext cx="197496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9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t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PSText"/>
            <p:cNvSpPr/>
            <p:nvPr/>
          </p:nvSpPr>
          <p:spPr>
            <a:xfrm>
              <a:off x="690480" y="3857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SArrow"/>
            <p:cNvSpPr/>
            <p:nvPr/>
          </p:nvSpPr>
          <p:spPr>
            <a:xfrm>
              <a:off x="500040" y="4111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Picture Choice 4"/>
          <p:cNvGrpSpPr/>
          <p:nvPr/>
        </p:nvGrpSpPr>
        <p:grpSpPr>
          <a:xfrm>
            <a:off x="2357280" y="5072040"/>
            <a:ext cx="1978200" cy="1008000"/>
            <a:chOff x="2357280" y="5072040"/>
            <a:chExt cx="1978200" cy="1008000"/>
          </a:xfrm>
        </p:grpSpPr>
        <mc:AlternateContent>
          <mc:Choice xmlns:a14="http://schemas.microsoft.com/office/drawing/2010/main" Requires="a14">
            <p:sp>
              <p:nvSpPr>
                <p:cNvPr id="112" name="Object 19"/>
                <p:cNvSpPr txBox="1"/>
                <p:nvPr/>
              </p:nvSpPr>
              <p:spPr>
                <a:xfrm>
                  <a:off x="2547720" y="5452920"/>
                  <a:ext cx="178776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t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PSText"/>
            <p:cNvSpPr/>
            <p:nvPr/>
          </p:nvSpPr>
          <p:spPr>
            <a:xfrm>
              <a:off x="2547720" y="5072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SArrow"/>
            <p:cNvSpPr/>
            <p:nvPr/>
          </p:nvSpPr>
          <p:spPr>
            <a:xfrm>
              <a:off x="2357280" y="5325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2" stAng="-5400000" swAng="-5400000"/>
                  <a:lnTo>
                    <a:pt x="0" y="11306"/>
                  </a:lnTo>
                  <a:arcTo wR="21600" hR="9282" stAng="10800000" swAng="-3539943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8"/>
                  </a:lnTo>
                  <a:arcTo wR="21600" hR="9282" stAng="7260057" swAng="3378032"/>
                  <a:lnTo>
                    <a:pt x="129" y="10294"/>
                  </a:lnTo>
                  <a:arcTo wR="21600" hR="9282" stAng="-10638089" swAng="5238089"/>
                  <a:close/>
                </a:path>
                <a:path fill="darkenLess" w="21600" h="21600">
                  <a:moveTo>
                    <a:pt x="21600" y="0"/>
                  </a:moveTo>
                  <a:arcTo wR="21600" hR="9282" stAng="-5400000" swAng="-5400000"/>
                  <a:lnTo>
                    <a:pt x="0" y="9282"/>
                  </a:lnTo>
                  <a:arcTo wR="21600" hR="9282" stAng="10800000" swAng="-161911"/>
                  <a:lnTo>
                    <a:pt x="129" y="10294"/>
                  </a:lnTo>
                  <a:arcTo wR="21600" hR="9282" stAng="-10638089" swAng="5238089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CorShape1"/>
          <p:cNvSpPr/>
          <p:nvPr/>
        </p:nvSpPr>
        <p:spPr>
          <a:xfrm rot="10800000">
            <a:off x="214200" y="1714320"/>
            <a:ext cx="355680" cy="355320"/>
          </a:xfrm>
          <a:custGeom>
            <a:avLst/>
            <a:gdLst>
              <a:gd name="textAreaLeft" fmla="*/ 0 w 355680"/>
              <a:gd name="textAreaRight" fmla="*/ 356040 w 35568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are vectors and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is a scalar, then which of the following are tru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Picture Choice 1"/>
          <p:cNvGrpSpPr/>
          <p:nvPr/>
        </p:nvGrpSpPr>
        <p:grpSpPr>
          <a:xfrm>
            <a:off x="642960" y="1857240"/>
            <a:ext cx="3305160" cy="1220760"/>
            <a:chOff x="642960" y="1857240"/>
            <a:chExt cx="3305160" cy="1220760"/>
          </a:xfrm>
        </p:grpSpPr>
        <mc:AlternateContent>
          <mc:Choice xmlns:a14="http://schemas.microsoft.com/office/drawing/2010/main" Requires="a14">
            <p:sp>
              <p:nvSpPr>
                <p:cNvPr id="121" name="PSPic"/>
                <p:cNvSpPr txBox="1"/>
                <p:nvPr/>
              </p:nvSpPr>
              <p:spPr>
                <a:xfrm>
                  <a:off x="833400" y="2238120"/>
                  <a:ext cx="3114720" cy="83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r</m:t>
                              </m:r>
                            </m:e>
                          </m:ba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</m:e>
                      </m:d>
                      <m:r>
                        <m:t xml:space="preserve">=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r</m:t>
                          </m:r>
                        </m:e>
                      </m:bar>
                      <m:r>
                        <m:rPr>
                          <m:lit/>
                          <m:nor/>
                        </m:rPr>
                        <m:t xml:space="preserve">.</m:t>
                      </m:r>
                      <m:f>
                        <m:num>
                          <m:r>
                            <m:t xml:space="preserve">d</m:t>
                          </m:r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r</m:t>
                              </m:r>
                            </m:e>
                          </m:ba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d</m:t>
                          </m:r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.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w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PSText"/>
            <p:cNvSpPr/>
            <p:nvPr/>
          </p:nvSpPr>
          <p:spPr>
            <a:xfrm>
              <a:off x="833400" y="18572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PSArrow"/>
            <p:cNvSpPr/>
            <p:nvPr/>
          </p:nvSpPr>
          <p:spPr>
            <a:xfrm>
              <a:off x="642960" y="2111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6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4"/>
                  </a:lnTo>
                  <a:lnTo>
                    <a:pt x="16200" y="18267"/>
                  </a:lnTo>
                  <a:arcTo wR="21600" hR="9281" stAng="7260138" swAng="3377870"/>
                  <a:lnTo>
                    <a:pt x="129" y="10294"/>
                  </a:lnTo>
                  <a:arcTo wR="21600" hR="9281" stAng="-10638008" swAng="5238008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1992"/>
                  <a:lnTo>
                    <a:pt x="129" y="10294"/>
                  </a:lnTo>
                  <a:arcTo wR="21600" hR="9281" stAng="-10638008" swAng="5238008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Picture Choice 2"/>
          <p:cNvGrpSpPr/>
          <p:nvPr/>
        </p:nvGrpSpPr>
        <p:grpSpPr>
          <a:xfrm>
            <a:off x="642960" y="3500280"/>
            <a:ext cx="3008160" cy="1221120"/>
            <a:chOff x="642960" y="3500280"/>
            <a:chExt cx="3008160" cy="1221120"/>
          </a:xfrm>
        </p:grpSpPr>
        <mc:AlternateContent>
          <mc:Choice xmlns:a14="http://schemas.microsoft.com/office/drawing/2010/main" Requires="a14">
            <p:sp>
              <p:nvSpPr>
                <p:cNvPr id="125" name="Object 10"/>
                <p:cNvSpPr txBox="1"/>
                <p:nvPr/>
              </p:nvSpPr>
              <p:spPr>
                <a:xfrm>
                  <a:off x="833400" y="3881160"/>
                  <a:ext cx="2817720" cy="84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r</m:t>
                              </m:r>
                            </m:e>
                          </m:bar>
                          <m:r>
                            <m:t xml:space="preserve">+</m:t>
                          </m:r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r</m:t>
                              </m:r>
                            </m:e>
                          </m:ba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d</m:t>
                          </m:r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6" name="PSText"/>
            <p:cNvSpPr/>
            <p:nvPr/>
          </p:nvSpPr>
          <p:spPr>
            <a:xfrm>
              <a:off x="833400" y="3500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PSArrow"/>
            <p:cNvSpPr/>
            <p:nvPr/>
          </p:nvSpPr>
          <p:spPr>
            <a:xfrm>
              <a:off x="642960" y="3754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Picture Choice 3"/>
          <p:cNvGrpSpPr/>
          <p:nvPr/>
        </p:nvGrpSpPr>
        <p:grpSpPr>
          <a:xfrm>
            <a:off x="714240" y="5143680"/>
            <a:ext cx="2059200" cy="1220760"/>
            <a:chOff x="714240" y="5143680"/>
            <a:chExt cx="2059200" cy="1220760"/>
          </a:xfrm>
        </p:grpSpPr>
        <mc:AlternateContent>
          <mc:Choice xmlns:a14="http://schemas.microsoft.com/office/drawing/2010/main" Requires="a14">
            <p:sp>
              <p:nvSpPr>
                <p:cNvPr id="129" name="Object 14"/>
                <p:cNvSpPr txBox="1"/>
                <p:nvPr/>
              </p:nvSpPr>
              <p:spPr>
                <a:xfrm>
                  <a:off x="904680" y="5524560"/>
                  <a:ext cx="1868760" cy="83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r</m:t>
                              </m:r>
                            </m:e>
                          </m:bar>
                        </m:e>
                      </m:d>
                      <m:r>
                        <m:t xml:space="preserve">=</m:t>
                      </m:r>
                      <m:r>
                        <m:t xml:space="preserve">c</m:t>
                      </m:r>
                      <m:f>
                        <m:num>
                          <m:r>
                            <m:t xml:space="preserve">d</m:t>
                          </m:r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r</m:t>
                              </m:r>
                            </m:e>
                          </m:ba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PSText"/>
            <p:cNvSpPr/>
            <p:nvPr/>
          </p:nvSpPr>
          <p:spPr>
            <a:xfrm>
              <a:off x="904680" y="5143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PSArrow"/>
            <p:cNvSpPr/>
            <p:nvPr/>
          </p:nvSpPr>
          <p:spPr>
            <a:xfrm>
              <a:off x="714240" y="5397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CorShape1"/>
          <p:cNvSpPr/>
          <p:nvPr/>
        </p:nvSpPr>
        <p:spPr>
          <a:xfrm rot="10800000">
            <a:off x="214200" y="3643200"/>
            <a:ext cx="355680" cy="355680"/>
          </a:xfrm>
          <a:custGeom>
            <a:avLst/>
            <a:gdLst>
              <a:gd name="textAreaLeft" fmla="*/ 0 w 355680"/>
              <a:gd name="textAreaRight" fmla="*/ 356040 w 355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1-06T10:24:2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